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8B7-8F4E-45FF-844F-32AC9363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792-976C-4A8F-AA58-56F6F4D7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29F-75CC-4AF1-B6D4-3F042D9A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142-F749-496D-80FA-C8985E6A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DB86-0301-4F74-8B1F-FAD3A503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ED04-52E2-4BAF-8A2F-7384286B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5936-103A-4DF4-A353-F1F7DF8A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0771-B009-49D9-BCB7-42AB812C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A287-2762-4120-84E3-4E209338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8046-21FF-4988-A0DE-6BC46D4F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C72F-E2DC-456F-8A10-2684E1E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525-DD5A-4661-B177-EBAB7659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DA62-5B4D-4448-939D-5320D0C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878A-BB37-43A1-A5A3-5FC9E062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BFBE-D57D-4903-8A4A-9AF1C51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4962-165D-4541-83F9-25A6DF6D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5A73-9F3F-4EA9-89CB-DD543EDE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671-1650-4B7C-AF77-5D77745A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FBB-B4E9-4479-B75F-8CC9FB58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7C3-5BC5-481E-AFF6-48A118F5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F81-38A1-48B6-96C8-D06855A3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11A-44A9-476B-8D42-794B95A8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86C-8BB4-40FF-907A-8047014D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0A8-664E-4DD0-A40F-0DD89B17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02F7-6E92-44F2-9257-8FB7C1E60D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5957-DA0B-494F-A51B-CE91D529E7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253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olicy making in alcohol abuse and violence prevention in the Russian Feder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560" y="4508280"/>
            <a:ext cx="6913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ian of RAM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.B. Dmitrie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4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temb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20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Major thrusts of prevention of violence related to alcohol abus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543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level of alcohol consumption in the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level of aggressiveness in the community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imary prevention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ible and effective treatment of patients with alcoholism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condary prevention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rehabilitation and psychological adjustmen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rtiary prevention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00000" y="476280"/>
            <a:ext cx="8002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dox of Preventio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rietma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1986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Cherpite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1993)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minor impact aimed at lower use of alcohol in the community as a whole turns out to be more effective than much greater impact exclusively oriented at patients with alcohol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matter how important and indispensable both secondary and tertiary prevention of alcohol abuse can be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imary prevention should be given pri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reduction of alcohol consumption in the community – this is what many governments are currently striving for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normal mode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RF, main efforts and resources are directed at the problem part of society (patients) with a minimal preventive impact on the general public (disease mod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844640"/>
            <a:ext cx="107928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71640" y="189000"/>
            <a:ext cx="7920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cohol policy in the RF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national strategy which in accord with national interests is aimed at lowering alcohol use in the community and decreasing negative consequences of alcohol consum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mbraces a host of measures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 of production of alcoholic beverage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 of offer of alcoholic beverage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luence on consumer demand for alcoholic beverage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lth education aimed at changing socio-psychological attitudes in the commun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cal and psychological care of patients with alcoholism and their family memb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ormal societal contr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844280"/>
            <a:ext cx="75438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litical situa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olitical stability level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deological priorities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conomic situa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labor activity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nd population employment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egree of economic stability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cial situa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ducational level of the population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oral values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nd priorities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ational culture subtleties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mographic situa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ex and age structure of the population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family situation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level of migration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dical situa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opulation health indicators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ealth care development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cological situa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limatic conditions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roduct quality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nvironmental pollution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476280"/>
            <a:ext cx="7910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pulation factors influencing alcohol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10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Main trends of the alcohol polic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921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tion-oriented measur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xation regulation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ertising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cohol availability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ing imposition of bans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 sales monopoly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ion of low alcoholic and soft drinks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tion of outlets, hours and weekdays of sales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support programmes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ooling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ment programmes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reational organization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populatio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arget audienc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-oriented measur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grou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agement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ing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ef intervention practic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group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arget audienc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intervention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med at individual consumer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encompass treatment and rehabilitation programm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ients with mental and behavioral disorders related to alcohol use as target audienc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inciples of regional alcohol polic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onal prevention (or rehabilitation) area is created within public alcohol policy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-departmental commissions are unable to provide for the coordination of all structural unit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fore it is necessary to establish, for example, the Center (Division) of Antialcoholic Policy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orting to a Governor (Mayor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-departmental target comprehensive alcohol misuse prevention programmes approved by the local government should form the basis for the regional antialcoholic policy to be conducted by the Federation ent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ion of a system of preventive detection of individuals from alcohol abuse risk groups and provision of the needed psychological help and social support to the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ting up of a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level system of treatment and rehabilitation services for persons from risk groups and patients with alcoholism, including the development of such components as preventio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al adaptation center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rehabilitatio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habilitation centers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Social Adaptation Centers in the system of violence preven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567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m of organiza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imary level of medical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sychological and soci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l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sychological and social care of persons from the following social risk group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ed from prison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osed to emergencie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n-made accidents and natural calamities, hostilitie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jected to violenc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rafamilial aggress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victims of offenders, etc.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nally displaced person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migran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jects with various addictions, including patients with alcoholi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deolog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in method of overcoming any form of social maladjustment consists in early detection, diagnosis, deviant behavior corre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2411280" y="2637000"/>
            <a:ext cx="1079640" cy="720720"/>
          </a:xfrm>
          <a:prstGeom prst="rightArrow">
            <a:avLst>
              <a:gd name="adj1" fmla="val 50000"/>
              <a:gd name="adj2" fmla="val 3745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349360"/>
            <a:ext cx="1873080" cy="122400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eviant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ehavi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76280"/>
            <a:ext cx="5761080" cy="863640"/>
          </a:xfrm>
          <a:prstGeom prst="parallelogram">
            <a:avLst>
              <a:gd name="adj" fmla="val 1667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ladjus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08360" y="2421000"/>
            <a:ext cx="2230560" cy="1224000"/>
          </a:xfrm>
          <a:prstGeom prst="plus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cohol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92280"/>
            <a:ext cx="2305080" cy="129672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2421000"/>
            <a:ext cx="1908360" cy="1224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ol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2492280"/>
            <a:ext cx="64764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1628640"/>
            <a:ext cx="1079640" cy="5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0920" y="4049280"/>
            <a:ext cx="81421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system of legal restrictions for alcohol abusers in preventing violenc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egal incapa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eprivation of paternal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eed for compulsory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xisting national system of violence prevention is mainly based upon a repressive ideology, i.e. ensuring unavoidable punishment for committed wrongdo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promising preventive approach is now evolving and directed at violence preventio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mplie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novel type of interrelation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ween different public and non-governmental organization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se goal is boiled down to the prevention of wrongdoings in terms of social rehabilitation rather than to crime control and punitive treatmen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revention of criminal aggression in the RF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hank you for your atten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560" y="2133360"/>
            <a:ext cx="8137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6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Alcoholism</a:t>
            </a: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1618,73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er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100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000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(2 310 792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tients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- 1,7%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f the population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se of alcohol with harmful consequences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- 1989,49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er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100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000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opulation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(2 840 063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ersons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For reference</a:t>
            </a: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Addictions</a:t>
            </a: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245,36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er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100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000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(350 267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tients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- 0,2%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f the population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se of narcotic and nonnarcotic psychoactive substances with harmful consequences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394,21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er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100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000 population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(562 752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ersons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)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33360"/>
            <a:ext cx="784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n accordance with state statistics, the number of persons put on files in the RF as of 2006 is as follows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8172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ynamics of the number of patients registered as suffering from alcoholism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coholic psychoses and addictions in the RF</a:t>
            </a: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100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pulation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2506680"/>
          <a:ext cx="845496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06680"/>
                    <a:ext cx="845496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Number of deaths caused by accidental alcohol poisoning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uring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2004-2006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by month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Rosstat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, 2007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0000" y="1920960"/>
          <a:ext cx="662472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20960"/>
                    <a:ext cx="662472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8028000" y="2924280"/>
            <a:ext cx="68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3554280"/>
            <a:ext cx="21600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2995560"/>
            <a:ext cx="287280" cy="28908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39200" y="4043520"/>
            <a:ext cx="287280" cy="360360"/>
          </a:xfrm>
          <a:prstGeom prst="flowChartDecision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cohol incidence rates and alcohol consumption levels in the community correlate with the level of violenc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alcohol happens to be a significant factor in committing acts of agg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835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Violence and alcohol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63280" y="1915920"/>
            <a:ext cx="8280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cohol is the main cause of a high crime wave in the R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.V. Andrienk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200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 to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0%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intrafamilial aggression takes place under the influence of alcoho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.M. Antonia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200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2,2%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homicide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2006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committed under the influence of alcoho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me and Law Violation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200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7,7%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road traffic injuries are inflicted under the influence of alcoho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40,9%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4; 35,8%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85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8172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Tahoma"/>
              </a:rPr>
              <a:t>Number of individuals put on trial for committing offences against person in the RF</a:t>
            </a:r>
            <a:br>
              <a:rPr sz="2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All-Russia Research Institute of the Ministry of Interior</a:t>
            </a: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, 200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1960" y="1928880"/>
          <a:ext cx="77724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928880"/>
                    <a:ext cx="77724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cological model for interpreting violen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060280"/>
            <a:ext cx="754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erarchical number of factors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ditioning violence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evel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s of biological and personal history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o-demographic characteristic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onality and psychological disorder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use of psychoactive substances, etc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evel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ragroup interrel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evel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relations within social (organize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rou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evel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al consciousness and public poli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argets of preventive interventions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in line with the ecological model of violence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844280"/>
            <a:ext cx="7898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dividual risk factors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limination and mitigation of exposure to risk factor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sion of properly-oriented upbringing syste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mpact option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grammes providing education and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ocial developmen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ultivation of occupational and social capabilitie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motional training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rapeutic intervention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pport groups and behavioral therapy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eatment programme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erpersonal relationship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reased level of psychohygienic education for developing good family rela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mpact option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ental training course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utorial programme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mily therapy programme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social and emotional training activit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evention of violence within organized groups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vision of help and support for the victims of viol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mpact options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ublic educational campaign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rovement of living condition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fety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ean environmen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ut-of-school youth activitie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port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r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reativity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ublic consciousness development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mpact option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islative and judicial protection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ternational treaties and agreement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grammes addressing main social problem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verty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reation of job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youth employmen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ternity and childhood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ffordable housing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cohol polic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07:45:36Z</dcterms:created>
  <dc:creator>Василий</dc:creator>
  <dc:description/>
  <dc:language>en-US</dc:language>
  <cp:lastModifiedBy>Georgy</cp:lastModifiedBy>
  <dcterms:modified xsi:type="dcterms:W3CDTF">2007-09-23T06:46:26Z</dcterms:modified>
  <cp:revision>169</cp:revision>
  <dc:subject/>
  <dc:title>Слайд 1</dc:title>
</cp:coreProperties>
</file>