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0C5-B2F5-439A-A16C-53515611C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нонимический термин – «тропиз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B29-414C-49AA-BCAF-8CE2F208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99B-1E43-4789-80EF-EC3C6F1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681-ABAD-4877-BF62-59CAC074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05E-AF59-4DC1-97D7-3C157C6E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F35-01E3-4385-A3DB-F700D9D3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E70-0C84-496B-8366-E092CF19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699-8A96-4FA6-AC9D-DD4623C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329-03C0-4EE1-8812-95382C4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943-C4D4-477C-AEE5-07342F18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258-370D-444D-A412-DD4D90D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F05-AE28-44EA-A68B-BA63D28F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B52-8EFF-4CE0-A5FE-EB262946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36BD-E55D-4DFE-B446-4DC8FE98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640" y="692280"/>
            <a:ext cx="71816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27"/>
                </a:solidFill>
                <a:latin typeface="Arial Black"/>
              </a:rPr>
              <a:t>Патогенетические закономерности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27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27"/>
                </a:solidFill>
                <a:latin typeface="Arial Black"/>
              </a:rPr>
              <a:t>формирования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27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27"/>
                </a:solidFill>
                <a:latin typeface="Arial Black"/>
              </a:rPr>
              <a:t> </a:t>
            </a: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27"/>
                </a:solidFill>
                <a:latin typeface="Arial Black"/>
              </a:rPr>
              <a:t>фобий у подростков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27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86900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ru-RU" sz="2400" spc="-1" strike="noStrike">
                <a:solidFill>
                  <a:srgbClr val="66ffff"/>
                </a:solidFill>
                <a:latin typeface="Arial Black"/>
              </a:rPr>
              <a:t>Научный центр психического здоровья РА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 Black"/>
              </a:rPr>
              <a:t>отдел по изучению проблем подростковой психиатрии   (рук. – проф. Н.А. Мазае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21300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 Black"/>
              </a:rPr>
              <a:t>Мазаева Н.А. Головина А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149720"/>
            <a:ext cx="647640" cy="576360"/>
          </a:xfrm>
          <a:prstGeom prst="ellipse">
            <a:avLst/>
          </a:prstGeom>
          <a:solidFill>
            <a:srgbClr val="ffe2c5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Arial"/>
              </a:rPr>
              <a:t>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546200" y="3170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озологическое распределение больных с фобиями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=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3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по категориям МКБ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283440" y="2852640"/>
          <a:ext cx="21049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3440" y="2852640"/>
                    <a:ext cx="21049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9640" y="2060640"/>
          <a:ext cx="8064720" cy="39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060640"/>
                    <a:ext cx="806472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Терапевтическая стратегия ведения подростков с фобическими расстрой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ыбор препаратов с учетом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1. физиологических особенностей подростка (особое соотношение белковой/жировой тканей, отличный от взрослых водно-солевой баланс, кризовый характер и неравномерность созревания органов и систем, незрелость нейромедиаторных систем с относительным отставанием серотонинэргических и норадреналинэргических структур в сравнении с дофаминэргическ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2. высокого уровня органической стигматизированности  пациентов подросткового возраст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редпочтение препаратов с минимальной «поведенческой токсичностью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Комплексный под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62864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15772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609300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астота фобий в изученных континг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1844640"/>
          <a:ext cx="6791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44640"/>
                    <a:ext cx="6791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16360" y="981000"/>
            <a:ext cx="4113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Исключ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признаки злокачественного течения психических болезн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- грубо прогредиентные ядерные формы шизофрен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- органическая демен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- выраженная умственная отсталос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наличие тяжелой сомато-неврологической патологии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невозможность получения полной и достоверной информации о больн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ритерии отбора бо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981000"/>
            <a:ext cx="4375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Включени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озраст 15 – 17 л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личие в клинической                               картине фобических расстрой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92428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98900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148428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465300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551664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836640"/>
            <a:ext cx="4176720" cy="583236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836640"/>
            <a:ext cx="4249800" cy="583236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ендерное распределение обследованных бо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оотношение обследованных больных по полу (юноши: девушк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се обращавшиеся за помощью подростки – 6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ростки с фобическими нарушениями – 4,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43700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71628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пектр фобических сюжето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628640"/>
          <a:ext cx="823896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3896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обические расстройства – возраст на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14716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 92,7 % пациентов - выявлялись с де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 7,3 % - обнаруживались лишь с началом подросткового возра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2637000"/>
            <a:ext cx="21780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4437000"/>
            <a:ext cx="21780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349360"/>
            <a:ext cx="7921440" cy="115272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221000"/>
            <a:ext cx="7921440" cy="115272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есто фобического синдрома в клинической кар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пределяет клиническую картину -  15 % па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ыступает изолированно вне связи с доминирующими проявлениями –  21 % па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Регистрируется в структуре синдромальной коморбидности –  64 % па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13372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371628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66100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916280"/>
            <a:ext cx="8497800" cy="115236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3500280"/>
            <a:ext cx="8497800" cy="151308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445000"/>
            <a:ext cx="8497800" cy="115272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обические расстройства: коморби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51480" y="5950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4360" y="1125360"/>
          <a:ext cx="7710480" cy="51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710480" cy="51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собенности фобических расстройств в подростковом возра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сокий удельный вес страхов, сюжетно свойственных детскому возра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личие элементов детского фантазирования в фобической фаб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редпочтительная подверженность подростков мужского п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озрастная динамика, отражающая процесс созр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собая структура коморб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63700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71628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97360"/>
            <a:ext cx="217440" cy="219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5877000"/>
            <a:ext cx="217440" cy="218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484280"/>
            <a:ext cx="8569440" cy="79236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492280"/>
            <a:ext cx="8569440" cy="79236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573360"/>
            <a:ext cx="8569440" cy="64944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653000"/>
            <a:ext cx="8569440" cy="64908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661000"/>
            <a:ext cx="8569440" cy="649440"/>
          </a:xfrm>
          <a:prstGeom prst="rect">
            <a:avLst/>
          </a:prstGeom>
          <a:noFill/>
          <a:ln w="25560">
            <a:solidFill>
              <a:srgbClr val="ff99cc"/>
            </a:solidFill>
            <a:miter/>
          </a:ln>
          <a:effectLst>
            <a:outerShdw dist="107932" dir="13500000" blurRad="0" rotWithShape="0">
              <a:srgbClr val="ff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1:06:37Z</dcterms:created>
  <dc:creator>Администратор</dc:creator>
  <dc:description/>
  <dc:language>en-US</dc:language>
  <cp:lastModifiedBy>1</cp:lastModifiedBy>
  <dcterms:modified xsi:type="dcterms:W3CDTF">2010-10-14T05:08:31Z</dcterms:modified>
  <cp:revision>286</cp:revision>
  <dc:subject/>
  <dc:title>Слайд 1</dc:title>
</cp:coreProperties>
</file>