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7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B86A-2FAF-49E7-BDC1-DFAB70F5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6EC2-4B04-459A-8915-27E37DAE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5AD1-BC2B-43D4-B99E-625455A7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8FC3E-A285-44B6-9F4B-7EA19806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5634-C2BC-4072-840F-981669A7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2396-E434-4E80-862C-5F27DDBB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18EE-0440-4CF6-BBA6-2F13D44B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106A-9F35-4640-871B-DF2D50FB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961D-CEE0-4B9A-9582-A972E2F4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6570-CE5D-4F5E-9634-4608FA0E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6008-74B5-4A10-A4E9-7D1489E4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42B19-A5C3-4A1E-9739-7EC61EE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E897-E54D-4A62-B018-A847E044769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E4FA-B379-44B4-8314-C20E522B4E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968040"/>
            <a:ext cx="88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Суицидальные тенденции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у детей Забайкальского края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923280"/>
            <a:ext cx="616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лавный детский психиатр Забайкальского кра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ор кафедры психиатрии Читинской гос. мед. академии, д.м.н. Злова Татьяна Павло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EA45-6D14-44CB-9CCA-0E3EEA65BB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Rectangle 15"/>
          <p:cNvGraphicFramePr/>
          <p:nvPr/>
        </p:nvGraphicFramePr>
        <p:xfrm>
          <a:off x="71280" y="1530360"/>
          <a:ext cx="889344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530360"/>
                    <a:ext cx="889344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80360" y="2775600"/>
            <a:ext cx="826920" cy="498960"/>
          </a:xfrm>
          <a:prstGeom prst="rect">
            <a:avLst/>
          </a:prstGeom>
          <a:solidFill>
            <a:srgbClr val="8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6,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7381800" y="3999600"/>
            <a:ext cx="828720" cy="498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,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119160" y="16560"/>
            <a:ext cx="855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мертность по причине самоубийств у детей и подростков в Забайкальском кра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место проживани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на 100тыс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8137440" y="3510360"/>
            <a:ext cx="827280" cy="49896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,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8210520" y="4375800"/>
            <a:ext cx="538200" cy="498960"/>
          </a:xfrm>
          <a:prstGeom prst="rect">
            <a:avLst/>
          </a:prstGeom>
          <a:solidFill>
            <a:srgbClr val="33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,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E538-4B12-4599-8004-B62FFB1BDD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озрастная структура суицидов в г. Чите (1995-2005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Rectangle 15"/>
          <p:cNvGraphicFramePr/>
          <p:nvPr/>
        </p:nvGraphicFramePr>
        <p:xfrm>
          <a:off x="166680" y="1508040"/>
          <a:ext cx="8859960" cy="35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508040"/>
                    <a:ext cx="8859960" cy="35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Rectangle 15"/>
          <p:cNvGraphicFramePr/>
          <p:nvPr/>
        </p:nvGraphicFramePr>
        <p:xfrm>
          <a:off x="4572000" y="2565360"/>
          <a:ext cx="4608360" cy="322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Rectangl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65360"/>
                    <a:ext cx="460836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4222440"/>
            <a:ext cx="399564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% от всех завершенных суицидов составили де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935640" y="2888280"/>
            <a:ext cx="431640" cy="1944720"/>
          </a:xfrm>
          <a:custGeom>
            <a:avLst/>
            <a:gdLst>
              <a:gd name="textAreaLeft" fmla="*/ 0 w 431640"/>
              <a:gd name="textAreaRight" fmla="*/ 155880 w 43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806080"/>
            <a:ext cx="47527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5% имевших суицидальные попытки – де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5437080" y="4249440"/>
            <a:ext cx="431640" cy="2448000"/>
          </a:xfrm>
          <a:custGeom>
            <a:avLst/>
            <a:gdLst>
              <a:gd name="textAreaLeft" fmla="*/ 0 w 431640"/>
              <a:gd name="textAreaRight" fmla="*/ 155880 w 43164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47AE-0FFF-4DC2-B140-4B0B2F5268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91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Структура суицидентов детского и юношеского возраст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Чита, 1996-2010 гг.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Rectangle 15"/>
          <p:cNvGraphicFramePr/>
          <p:nvPr/>
        </p:nvGraphicFramePr>
        <p:xfrm>
          <a:off x="190440" y="2090880"/>
          <a:ext cx="5307120" cy="34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2090880"/>
                    <a:ext cx="530712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Rectangle 15"/>
          <p:cNvGraphicFramePr/>
          <p:nvPr/>
        </p:nvGraphicFramePr>
        <p:xfrm>
          <a:off x="5076720" y="1488960"/>
          <a:ext cx="3743280" cy="26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Rectangl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488960"/>
                    <a:ext cx="374328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Rectangle 15"/>
          <p:cNvGraphicFramePr/>
          <p:nvPr/>
        </p:nvGraphicFramePr>
        <p:xfrm>
          <a:off x="312840" y="4184640"/>
          <a:ext cx="3405240" cy="24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Rectangle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840" y="4184640"/>
                    <a:ext cx="340524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Rectangle 15"/>
          <p:cNvGraphicFramePr/>
          <p:nvPr/>
        </p:nvGraphicFramePr>
        <p:xfrm>
          <a:off x="5284800" y="4157640"/>
          <a:ext cx="3612960" cy="25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Rectangle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4800" y="4157640"/>
                    <a:ext cx="36129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7480" y="1494000"/>
            <a:ext cx="4268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вершенные суици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4624560" y="1515960"/>
            <a:ext cx="4268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уицидальные попы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2852640"/>
            <a:ext cx="237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до 15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5526000"/>
            <a:ext cx="237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5-18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7980-69DB-410A-8BEE-97FAB3C933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79280" y="2090880"/>
          <a:ext cx="5329440" cy="34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90880"/>
                    <a:ext cx="532944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076720" y="1484280"/>
          <a:ext cx="3743280" cy="26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484280"/>
                    <a:ext cx="37432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49120" y="4181400"/>
          <a:ext cx="3524400" cy="261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120" y="4181400"/>
                    <a:ext cx="352440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398920" y="4076640"/>
          <a:ext cx="3745080" cy="259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8920" y="4076640"/>
                    <a:ext cx="3745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личие алкогольного опьянения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 суицидентов детского и подросткового возраста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(Чита, 1996-2010 гг.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87480" y="1616040"/>
            <a:ext cx="4268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вершенные суици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4624560" y="1638360"/>
            <a:ext cx="4268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уицидальные попы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852640"/>
            <a:ext cx="237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до 15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5526000"/>
            <a:ext cx="237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5-18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976A-3F7D-49AD-9991-92040B00F6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4920" y="2205000"/>
          <a:ext cx="401796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205000"/>
                    <a:ext cx="401796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08000" y="1494000"/>
            <a:ext cx="4268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вершенные суици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4624560" y="1515960"/>
            <a:ext cx="4268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уицидальные попы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етоды совершения суицальных попыток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 детей и подростков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(Чита, 1996-2010 гг.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1" name="Rectangle 15"/>
          <p:cNvGraphicFramePr/>
          <p:nvPr/>
        </p:nvGraphicFramePr>
        <p:xfrm>
          <a:off x="4572000" y="2165400"/>
          <a:ext cx="4302000" cy="42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Rectangl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165400"/>
                    <a:ext cx="430200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28389-9319-43E6-B655-AE68022CCD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08000" y="-27000"/>
            <a:ext cx="8893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00"/>
                </a:solidFill>
                <a:uFillTx/>
                <a:latin typeface="Times New Roman"/>
              </a:rPr>
              <a:t>Суицидальные тенденции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Исаев Д.С., Шерстнев К.В., 20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179280" y="1248840"/>
            <a:ext cx="2160720" cy="49932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тсутст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826920" y="3636360"/>
            <a:ext cx="6697800" cy="4993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Times New Roman"/>
              </a:rPr>
              <a:t>суицидальные намер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1308240"/>
            <a:ext cx="432000" cy="333360"/>
          </a:xfrm>
          <a:custGeom>
            <a:avLst/>
            <a:gdLst>
              <a:gd name="textAreaLeft" fmla="*/ 54000 w 432000"/>
              <a:gd name="textAreaRight" fmla="*/ 378000 w 43200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916360" y="1209240"/>
            <a:ext cx="5543280" cy="4993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антивитальные пережи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8532720" y="1308240"/>
            <a:ext cx="432000" cy="333360"/>
          </a:xfrm>
          <a:custGeom>
            <a:avLst/>
            <a:gdLst>
              <a:gd name="textAreaLeft" fmla="*/ 54000 w 432000"/>
              <a:gd name="textAreaRight" fmla="*/ 378000 w 43200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792000" y="2071080"/>
            <a:ext cx="7599600" cy="4993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Times New Roman"/>
              </a:rPr>
              <a:t>пассивные суицидальные мыс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8494560" y="2171880"/>
            <a:ext cx="432000" cy="333360"/>
          </a:xfrm>
          <a:custGeom>
            <a:avLst/>
            <a:gdLst>
              <a:gd name="textAreaLeft" fmla="*/ 54000 w 432000"/>
              <a:gd name="textAreaRight" fmla="*/ 378000 w 43200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826920" y="2879280"/>
            <a:ext cx="6697800" cy="499320"/>
          </a:xfrm>
          <a:prstGeom prst="rect">
            <a:avLst/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Times New Roman"/>
              </a:rPr>
              <a:t>суицидальные замыс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7667640" y="296388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17188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96388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71628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_s1030"/>
          <p:cNvSpPr/>
          <p:nvPr/>
        </p:nvSpPr>
        <p:spPr>
          <a:xfrm>
            <a:off x="1487520" y="4275000"/>
            <a:ext cx="2724120" cy="2382840"/>
          </a:xfrm>
          <a:prstGeom prst="ellipse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мысли, замысл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намер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_s1030"/>
          <p:cNvSpPr/>
          <p:nvPr/>
        </p:nvSpPr>
        <p:spPr>
          <a:xfrm>
            <a:off x="3995640" y="4797360"/>
            <a:ext cx="1695600" cy="14400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пыт-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_s1028"/>
          <p:cNvSpPr/>
          <p:nvPr/>
        </p:nvSpPr>
        <p:spPr>
          <a:xfrm>
            <a:off x="5551560" y="5187960"/>
            <a:ext cx="718920" cy="717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6372360" y="5084640"/>
            <a:ext cx="1439640" cy="82548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заверш. суици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E47D-34CD-4357-83B5-60E8A11FCC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197000"/>
            <a:ext cx="8604000" cy="1191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пределить сформированность суицидальных тенденций у подростко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/>
          <p:cNvSpPr/>
          <p:nvPr/>
        </p:nvSpPr>
        <p:spPr>
          <a:xfrm>
            <a:off x="254160" y="2867040"/>
            <a:ext cx="8597880" cy="1130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Особенности имеющихся про- и антисуицидальных мотиваций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281160" y="4595760"/>
            <a:ext cx="8597880" cy="1130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Влияние социодемографических факторов на формирование суицидальных тенденций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2414520"/>
            <a:ext cx="50328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4356000" y="4143240"/>
            <a:ext cx="50328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50920" y="1634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Изучение суицидального поведе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BAA8-ED64-493C-9DBC-431C3FF667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0D7C-0E3A-42B3-9E85-79A5093AEE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0920" y="11592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Были обследован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682560"/>
            <a:ext cx="91440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1173 человека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в возрасте от 14 до 24 лет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539640" y="1670040"/>
            <a:ext cx="864072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-ся 10-11 классов школ (n=405), из 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ычная школа – 84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ильные – 32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уденты 1-2 курса ПТУ (n=178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уденты 1-2 курса ВУЗ (n=6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250920" y="3959280"/>
          <a:ext cx="803412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959280"/>
                    <a:ext cx="803412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020000" y="4294080"/>
            <a:ext cx="430200" cy="863640"/>
          </a:xfrm>
          <a:custGeom>
            <a:avLst/>
            <a:gdLst>
              <a:gd name="textAreaLeft" fmla="*/ 0 w 430200"/>
              <a:gd name="textAreaRight" fmla="*/ 155160 w 4302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7594560" y="4458240"/>
            <a:ext cx="1224000" cy="48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2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0694-0018-4523-B1BC-615536EFBB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250920" y="163440"/>
            <a:ext cx="87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Изучение социально-психологических аспектов суицидального поведения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9640" y="1700280"/>
            <a:ext cx="835344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85680" indent="360360">
              <a:lnSpc>
                <a:spcPct val="11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еседа по анкете (определение наличия и выраженности суицидальных тенденций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85680" indent="360360">
              <a:lnSpc>
                <a:spcPct val="11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просник про- и антисуицидальных мотиваций (Ю.Р. Вагин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85680" indent="360360">
              <a:lnSpc>
                <a:spcPct val="11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просник суицидального риска А.А.Кучер - В.П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стюкеви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E151-4DFA-4386-99E0-209A0FE0A8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971640" y="3933720"/>
          <a:ext cx="674208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933720"/>
                    <a:ext cx="674208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3"/>
          <p:cNvSpPr/>
          <p:nvPr/>
        </p:nvSpPr>
        <p:spPr>
          <a:xfrm>
            <a:off x="108000" y="44280"/>
            <a:ext cx="889308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Суицидальные тенденции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179280" y="817200"/>
            <a:ext cx="2160720" cy="49932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тсутст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826920" y="3204720"/>
            <a:ext cx="6697800" cy="4993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Times New Roman"/>
              </a:rPr>
              <a:t>суицидальные намерения (44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876240"/>
            <a:ext cx="432000" cy="333360"/>
          </a:xfrm>
          <a:custGeom>
            <a:avLst/>
            <a:gdLst>
              <a:gd name="textAreaLeft" fmla="*/ 54000 w 432000"/>
              <a:gd name="textAreaRight" fmla="*/ 378000 w 43200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2916360" y="777240"/>
            <a:ext cx="5543280" cy="4993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антивитальные пережи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8532720" y="876240"/>
            <a:ext cx="432000" cy="333360"/>
          </a:xfrm>
          <a:custGeom>
            <a:avLst/>
            <a:gdLst>
              <a:gd name="textAreaLeft" fmla="*/ 54000 w 432000"/>
              <a:gd name="textAreaRight" fmla="*/ 378000 w 43200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92000" y="1639440"/>
            <a:ext cx="7599600" cy="4993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Times New Roman"/>
              </a:rPr>
              <a:t>пассивные суицидальные мысли (10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8494560" y="1739880"/>
            <a:ext cx="432000" cy="333360"/>
          </a:xfrm>
          <a:custGeom>
            <a:avLst/>
            <a:gdLst>
              <a:gd name="textAreaLeft" fmla="*/ 54000 w 432000"/>
              <a:gd name="textAreaRight" fmla="*/ 378000 w 43200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826920" y="2447640"/>
            <a:ext cx="6697800" cy="499320"/>
          </a:xfrm>
          <a:prstGeom prst="rect">
            <a:avLst/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Times New Roman"/>
              </a:rPr>
              <a:t>суицидальные замыслы (2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"/>
          <p:cNvSpPr/>
          <p:nvPr/>
        </p:nvSpPr>
        <p:spPr>
          <a:xfrm>
            <a:off x="7667640" y="253224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73988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253224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328464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56BA-7D58-4031-B70B-371EFC83B1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413000"/>
            <a:ext cx="8496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очень низкий уровень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(менее 1 случая)</a:t>
            </a:r>
            <a:br>
              <a:rPr sz="30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Мальта, Арабские стра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3500280"/>
            <a:ext cx="81471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средний уровень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(10 - 20 случаев)</a:t>
            </a:r>
            <a:br>
              <a:rPr sz="30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Япония, СШ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508640"/>
            <a:ext cx="81471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высокий уровень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(20 - 30 случаев)</a:t>
            </a:r>
            <a:br>
              <a:rPr sz="30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Германия, Чехия, Австралия, Дания, Шве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589720"/>
            <a:ext cx="86151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очень высокий уровень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 (более 30 случаев)</a:t>
            </a:r>
            <a:br>
              <a:rPr sz="3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оссия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, Венгрия, Литва, Латвия, Укра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421000"/>
            <a:ext cx="81471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низкий уровень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(до 10 случаев)</a:t>
            </a:r>
            <a:br>
              <a:rPr sz="30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Англия, Шотландия, Норвегия, Испания, Итал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Статистика суицидов в мире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смертность по причине суицидов, на 100 тыс.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E080-3D34-42DB-BE5D-23FBCEEAB9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Object 2"/>
          <p:cNvGraphicFramePr/>
          <p:nvPr/>
        </p:nvGraphicFramePr>
        <p:xfrm>
          <a:off x="0" y="1123920"/>
          <a:ext cx="4486320" cy="30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3920"/>
                    <a:ext cx="448632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3"/>
          <p:cNvSpPr/>
          <p:nvPr/>
        </p:nvSpPr>
        <p:spPr>
          <a:xfrm>
            <a:off x="108000" y="44280"/>
            <a:ext cx="8893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Суицидальные тенденции: гендерные отлич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95280" y="765000"/>
            <a:ext cx="26272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юнош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300720" y="765000"/>
            <a:ext cx="26272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девуш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4356000" y="1197000"/>
          <a:ext cx="4481640" cy="264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97000"/>
                    <a:ext cx="448164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Rectangle 4"/>
          <p:cNvSpPr/>
          <p:nvPr/>
        </p:nvSpPr>
        <p:spPr>
          <a:xfrm>
            <a:off x="826920" y="4150080"/>
            <a:ext cx="7921800" cy="24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отсутств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антивитальные переживания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пассивные суицидальные мыс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суицидальные замысл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суицидальные намер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4360" y="5759280"/>
            <a:ext cx="431640" cy="358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684360" y="6232680"/>
            <a:ext cx="43164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684360" y="4292640"/>
            <a:ext cx="431640" cy="3585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684360" y="4772160"/>
            <a:ext cx="43164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684360" y="5275440"/>
            <a:ext cx="431640" cy="358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940360" y="1341360"/>
            <a:ext cx="97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&lt;0,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50920" y="1484280"/>
            <a:ext cx="974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&lt;0,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4102-E7CA-4F0C-B9C2-7B06D1CF7C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34920" y="1197000"/>
          <a:ext cx="44816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197000"/>
                    <a:ext cx="4481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 Box 3"/>
          <p:cNvSpPr/>
          <p:nvPr/>
        </p:nvSpPr>
        <p:spPr>
          <a:xfrm>
            <a:off x="108000" y="44280"/>
            <a:ext cx="88930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Суицидальные тенденции и образован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324000" y="620640"/>
            <a:ext cx="19443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ычная шк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788000" y="620640"/>
            <a:ext cx="40669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офиль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4643280" y="1197000"/>
          <a:ext cx="4481640" cy="264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197000"/>
                    <a:ext cx="448164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"/>
          <p:cNvGraphicFramePr/>
          <p:nvPr/>
        </p:nvGraphicFramePr>
        <p:xfrm>
          <a:off x="179280" y="4221000"/>
          <a:ext cx="4481640" cy="24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4221000"/>
                    <a:ext cx="4481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"/>
          <p:cNvGraphicFramePr/>
          <p:nvPr/>
        </p:nvGraphicFramePr>
        <p:xfrm>
          <a:off x="4572000" y="4024440"/>
          <a:ext cx="4481640" cy="264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024440"/>
                    <a:ext cx="448164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3"/>
          <p:cNvSpPr/>
          <p:nvPr/>
        </p:nvSpPr>
        <p:spPr>
          <a:xfrm>
            <a:off x="395280" y="3665520"/>
            <a:ext cx="19447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Т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7524720" y="3809880"/>
            <a:ext cx="11527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У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2916360" y="3573360"/>
            <a:ext cx="3240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тарше 17 л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2987640" y="765000"/>
            <a:ext cx="3240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до 17 л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07F7-C3F7-4A60-8681-7F910AF642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306360" y="1144440"/>
          <a:ext cx="448164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144440"/>
                    <a:ext cx="44816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"/>
          <p:cNvSpPr/>
          <p:nvPr/>
        </p:nvSpPr>
        <p:spPr>
          <a:xfrm>
            <a:off x="108000" y="44280"/>
            <a:ext cx="88930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Суицидальные тенденции и семь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95280" y="765000"/>
            <a:ext cx="3240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олная семь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651640" y="692280"/>
            <a:ext cx="3240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еполная семь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4500720" y="1197000"/>
          <a:ext cx="4481280" cy="28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197000"/>
                    <a:ext cx="448128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826920" y="4150080"/>
            <a:ext cx="7921800" cy="24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отсутств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антивитальные переживания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пассивные суицидальные мыс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суицидальные замысл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суицидальные намер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84360" y="5759280"/>
            <a:ext cx="431640" cy="358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684360" y="6232680"/>
            <a:ext cx="43164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84360" y="4292640"/>
            <a:ext cx="431640" cy="3585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684360" y="4772160"/>
            <a:ext cx="43164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684360" y="5275440"/>
            <a:ext cx="431640" cy="358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E6FC-DE91-4EC8-8376-055194CD68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2"/>
          <p:cNvGraphicFramePr/>
          <p:nvPr/>
        </p:nvGraphicFramePr>
        <p:xfrm>
          <a:off x="2989440" y="1523880"/>
          <a:ext cx="309528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1523880"/>
                    <a:ext cx="309528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3"/>
          <p:cNvSpPr/>
          <p:nvPr/>
        </p:nvSpPr>
        <p:spPr>
          <a:xfrm>
            <a:off x="2916360" y="1001880"/>
            <a:ext cx="3240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ипооп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08000" y="44280"/>
            <a:ext cx="88930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Суицидальные тенденции и воспитан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-108000" y="3735360"/>
            <a:ext cx="3240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ипероп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108000" y="4260960"/>
          <a:ext cx="309564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260960"/>
                    <a:ext cx="30956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2"/>
          <p:cNvGraphicFramePr/>
          <p:nvPr/>
        </p:nvGraphicFramePr>
        <p:xfrm>
          <a:off x="3002040" y="4221000"/>
          <a:ext cx="3095640" cy="197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2040" y="4221000"/>
                    <a:ext cx="3095640" cy="19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2987640" y="3713040"/>
            <a:ext cx="3240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умир семь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5940360" y="4476600"/>
          <a:ext cx="3095640" cy="197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4476600"/>
                    <a:ext cx="3095640" cy="19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3"/>
          <p:cNvSpPr/>
          <p:nvPr/>
        </p:nvSpPr>
        <p:spPr>
          <a:xfrm>
            <a:off x="6300720" y="3506760"/>
            <a:ext cx="2303640" cy="921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ежовые рукавиц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67" name="Object 2"/>
          <p:cNvGraphicFramePr/>
          <p:nvPr/>
        </p:nvGraphicFramePr>
        <p:xfrm>
          <a:off x="5867280" y="1503360"/>
          <a:ext cx="3095640" cy="197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1503360"/>
                    <a:ext cx="30956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3"/>
          <p:cNvSpPr/>
          <p:nvPr/>
        </p:nvSpPr>
        <p:spPr>
          <a:xfrm>
            <a:off x="6227640" y="1009800"/>
            <a:ext cx="2376720" cy="556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олуш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108000" y="1503360"/>
          <a:ext cx="3095640" cy="197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8000" y="1503360"/>
                    <a:ext cx="30956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3"/>
          <p:cNvSpPr/>
          <p:nvPr/>
        </p:nvSpPr>
        <p:spPr>
          <a:xfrm>
            <a:off x="-73080" y="836640"/>
            <a:ext cx="32400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емократи-ческо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020000" y="6093000"/>
            <a:ext cx="974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&lt;0,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78FE-3473-45A4-BC59-B42CD6E276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97B9-1D77-406F-8F3F-CE4901650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1260360" y="1050840"/>
          <a:ext cx="687384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050840"/>
                    <a:ext cx="687384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5"/>
          <p:cNvSpPr/>
          <p:nvPr/>
        </p:nvSpPr>
        <p:spPr>
          <a:xfrm>
            <a:off x="430200" y="4707720"/>
            <a:ext cx="39243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– смерть ради други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– потеря смысла жиз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 – невыносимость страд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 – манипуляция други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0" y="90360"/>
            <a:ext cx="9001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Просуицидальные мотивац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(вся группа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248000" y="4803840"/>
            <a:ext cx="435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 – самонаказ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 – наказание други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– надежда на что-то лучшее после смер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Rectangle 7"/>
          <p:cNvSpPr/>
          <p:nvPr/>
        </p:nvSpPr>
        <p:spPr>
          <a:xfrm rot="16200000">
            <a:off x="-1501560" y="2648880"/>
            <a:ext cx="4286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% подростков с выраженными                                     показателя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5C78-A44D-4EBE-9740-A84BA4E6B5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9DC2-3988-4C39-8CF9-596E4C9639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82" name="Object 3"/>
          <p:cNvGraphicFramePr/>
          <p:nvPr/>
        </p:nvGraphicFramePr>
        <p:xfrm>
          <a:off x="1266840" y="1143000"/>
          <a:ext cx="610704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143000"/>
                    <a:ext cx="61070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5"/>
          <p:cNvSpPr/>
          <p:nvPr/>
        </p:nvSpPr>
        <p:spPr>
          <a:xfrm>
            <a:off x="428760" y="4440240"/>
            <a:ext cx="4143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– страх смер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– религиозная мотивац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 – чувство долг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 – негатив. отношение к суицид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 – как я буду выглядеть после смер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252360" y="0"/>
            <a:ext cx="849636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Антисуицидальные мотиваци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(вся групп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317840" y="4581000"/>
            <a:ext cx="46119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 – любовь к себ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 – надежда разрешить ситуаци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 – ситуация сама изменится к лучшем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 – неуверенность, что удастся умере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Rectangle 7"/>
          <p:cNvSpPr/>
          <p:nvPr/>
        </p:nvSpPr>
        <p:spPr>
          <a:xfrm rot="16200000">
            <a:off x="-1384200" y="2598120"/>
            <a:ext cx="4286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% подростков с выраженными                                     показателя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91F0-E53F-44DD-9E3B-A40895B266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857160" y="2133720"/>
          <a:ext cx="7726320" cy="40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133720"/>
                    <a:ext cx="772632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108000" y="260280"/>
            <a:ext cx="889308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Суицидальные попытки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(вся группа обследованных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5681-B6B8-44F9-9452-D5F4124DDA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3"/>
          <p:cNvSpPr/>
          <p:nvPr/>
        </p:nvSpPr>
        <p:spPr>
          <a:xfrm>
            <a:off x="108000" y="366840"/>
            <a:ext cx="90010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Суицидальные попытки и семь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250920" y="1433520"/>
            <a:ext cx="4248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олная семь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716360" y="1433520"/>
            <a:ext cx="42483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еполная семь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94" name="Object 2"/>
          <p:cNvGraphicFramePr/>
          <p:nvPr/>
        </p:nvGraphicFramePr>
        <p:xfrm>
          <a:off x="250920" y="2044800"/>
          <a:ext cx="447516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44800"/>
                    <a:ext cx="447516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2"/>
          <p:cNvGraphicFramePr/>
          <p:nvPr/>
        </p:nvGraphicFramePr>
        <p:xfrm>
          <a:off x="4668840" y="1989000"/>
          <a:ext cx="447516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8840" y="1989000"/>
                    <a:ext cx="44751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4"/>
          <p:cNvSpPr/>
          <p:nvPr/>
        </p:nvSpPr>
        <p:spPr>
          <a:xfrm>
            <a:off x="792000" y="4694400"/>
            <a:ext cx="788364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уицидальные попытки в прошлом отсутствова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были суицидальные попытки в прошл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08000" y="5734080"/>
            <a:ext cx="43164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08000" y="4799160"/>
            <a:ext cx="431640" cy="3585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43E2-07C8-474C-B26D-452B6B7AAE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3"/>
          <p:cNvSpPr/>
          <p:nvPr/>
        </p:nvSpPr>
        <p:spPr>
          <a:xfrm>
            <a:off x="108000" y="44280"/>
            <a:ext cx="88930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Суицидальные попытки и образован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79280" y="620640"/>
            <a:ext cx="19447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ычная шк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5076720" y="620640"/>
            <a:ext cx="4067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офиль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50920" y="3665520"/>
            <a:ext cx="19447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Т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7740720" y="3809880"/>
            <a:ext cx="11523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У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2916360" y="3429000"/>
            <a:ext cx="3240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тарше 17 л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2987640" y="765000"/>
            <a:ext cx="3240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до 17 л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08" name="Object 2"/>
          <p:cNvGraphicFramePr/>
          <p:nvPr/>
        </p:nvGraphicFramePr>
        <p:xfrm>
          <a:off x="96840" y="3645000"/>
          <a:ext cx="447516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3645000"/>
                    <a:ext cx="447516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2"/>
          <p:cNvGraphicFramePr/>
          <p:nvPr/>
        </p:nvGraphicFramePr>
        <p:xfrm>
          <a:off x="4668840" y="3645000"/>
          <a:ext cx="4475160" cy="27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8840" y="3645000"/>
                    <a:ext cx="447516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2"/>
          <p:cNvGraphicFramePr/>
          <p:nvPr/>
        </p:nvGraphicFramePr>
        <p:xfrm>
          <a:off x="4668840" y="1268280"/>
          <a:ext cx="4475160" cy="275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68840" y="1268280"/>
                    <a:ext cx="447516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2"/>
          <p:cNvGraphicFramePr/>
          <p:nvPr/>
        </p:nvGraphicFramePr>
        <p:xfrm>
          <a:off x="0" y="1268280"/>
          <a:ext cx="4475160" cy="27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268280"/>
                    <a:ext cx="447516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Rectangle 4"/>
          <p:cNvSpPr/>
          <p:nvPr/>
        </p:nvSpPr>
        <p:spPr>
          <a:xfrm>
            <a:off x="863640" y="5734080"/>
            <a:ext cx="7380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buClr>
                <a:srgbClr val="ffffff"/>
              </a:buClr>
              <a:buFont typeface="Times New Roman"/>
              <a:buChar char="-"/>
              <a:tabLst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 было суицидальных попыт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buClr>
                <a:srgbClr val="ffffff"/>
              </a:buClr>
              <a:buFont typeface="Times New Roman"/>
              <a:buChar char="-"/>
              <a:tabLst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ыли суицидальные попытки в прошл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95280" y="6388200"/>
            <a:ext cx="36036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395280" y="5907240"/>
            <a:ext cx="360360" cy="322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-36360" y="4365720"/>
            <a:ext cx="974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&lt;0,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030F-F025-41C7-8F8A-7AA9CF55B1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51DD-1192-4437-802A-8531AE4F95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684360" y="981000"/>
          <a:ext cx="770400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77040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-34920" y="4834800"/>
            <a:ext cx="4319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1 – зависимость от ПА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2 – несчастная любовь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3 – противоправ. действия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4 – денежные проблемы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5 – семейные проблемы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08000" y="-27000"/>
            <a:ext cx="8893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Актуальные проблемы подростков как риск суици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Rectangle 7"/>
          <p:cNvSpPr/>
          <p:nvPr/>
        </p:nvSpPr>
        <p:spPr>
          <a:xfrm rot="16200000">
            <a:off x="-1384200" y="2812680"/>
            <a:ext cx="42861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% подростков с выраженными                                     показателя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3924360" y="4857480"/>
            <a:ext cx="50036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6 – потеря смысла жизн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7 – чувство неполноценност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8 – школьные проблемы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9 – отношения с окружающим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"/>
          <p:cNvSpPr/>
          <p:nvPr/>
        </p:nvSpPr>
        <p:spPr>
          <a:xfrm>
            <a:off x="1979640" y="1371600"/>
            <a:ext cx="1800360" cy="134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6,4% критический уровень дезадапт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BA4E-1B82-42C7-959C-554995724D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4560" y="1125000"/>
            <a:ext cx="9109080" cy="54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изкий уровень (0-10) – 4 субъек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cc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нгушетия, Дагестан, Карачаево-Черкесия, Северная Осет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редний уровень (11-20) – 5 субъек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cc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бардино-Балкария, Ставропольский край, Ростовская область, Москва, Санкт-Петербур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ысокий уровень (21-60) – 70 субъек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сверхвысокий уровень (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&gt;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60) – 9 субъек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еспублики Удмуртия, Бурятия, Алтай; Ненецкий, Корякский, Коми-Пермяцкий и Усть-Ордынский Бурятский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втономные округа;</a:t>
            </a:r>
            <a:r>
              <a:rPr b="1" i="1" lang="ru-RU" sz="28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Читинская область; Агинский Бурятский окру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-27000"/>
            <a:ext cx="89280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Смертность от самоубийств в субъектах РФ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Гладышев М.В., 200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EB5E-3D72-4308-8176-58CBAFE918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E35C-74A5-4D7D-8F62-737F08C35A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826920" y="1413000"/>
          <a:ext cx="612144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612144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Text Box 6"/>
          <p:cNvSpPr/>
          <p:nvPr/>
        </p:nvSpPr>
        <p:spPr>
          <a:xfrm>
            <a:off x="108000" y="17640"/>
            <a:ext cx="88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Актуальные проблемы у подростков, совершавших суицидальные попытк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Rectangle 7"/>
          <p:cNvSpPr/>
          <p:nvPr/>
        </p:nvSpPr>
        <p:spPr>
          <a:xfrm rot="16200000">
            <a:off x="-1315080" y="3051360"/>
            <a:ext cx="4084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% подростков с выраженными                                     показателя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16000" y="621360"/>
            <a:ext cx="3132000" cy="570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совершавши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"/>
          <p:cNvSpPr/>
          <p:nvPr/>
        </p:nvSpPr>
        <p:spPr>
          <a:xfrm>
            <a:off x="6659640" y="1335240"/>
            <a:ext cx="2340000" cy="1109520"/>
          </a:xfrm>
          <a:prstGeom prst="rect">
            <a:avLst/>
          </a:prstGeom>
          <a:solidFill>
            <a:srgbClr val="ff00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Авторитарное воспитание, «Золушка»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 rot="19939800">
            <a:off x="5606640" y="184428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f4d8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-34920" y="4834800"/>
            <a:ext cx="4319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1 – зависимость от ПА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2 – несчастная любовь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3 – противоправ. действия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4 – денежные проблемы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5 – семейные проблемы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3924360" y="4857480"/>
            <a:ext cx="50036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6 – потеря смысла жизн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7 – чувство неполноценност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8 – школьные проблемы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9 – отношения с окружающим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"/>
          <p:cNvSpPr/>
          <p:nvPr/>
        </p:nvSpPr>
        <p:spPr>
          <a:xfrm>
            <a:off x="1692360" y="1371600"/>
            <a:ext cx="1800000" cy="134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8,1% критический уровень дезадапт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8B17-D535-412A-85DE-D0ABD10A07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27E5-CFDC-499D-B275-B36524D239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682560" y="836640"/>
          <a:ext cx="799308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836640"/>
                    <a:ext cx="79930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5"/>
          <p:cNvSpPr/>
          <p:nvPr/>
        </p:nvSpPr>
        <p:spPr>
          <a:xfrm>
            <a:off x="-34920" y="4993560"/>
            <a:ext cx="4319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1 – зависимость от ПА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2 – несчастная любовь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3 – противоправ. действия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4 – денежные проблемы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5 – семейные проблемы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08000" y="-27000"/>
            <a:ext cx="889308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Актуальные проблемы воспитанников детских домов как риск суицида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Rectangle 7"/>
          <p:cNvSpPr/>
          <p:nvPr/>
        </p:nvSpPr>
        <p:spPr>
          <a:xfrm rot="16200000">
            <a:off x="-1384200" y="2812680"/>
            <a:ext cx="42861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% подростков с выраженными                                     показателя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3924360" y="5016240"/>
            <a:ext cx="50036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6 – потеря смысла жизн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7 – чувство неполноценност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8 – школьные проблемы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27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9 – отношения с окружающим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"/>
          <p:cNvSpPr/>
          <p:nvPr/>
        </p:nvSpPr>
        <p:spPr>
          <a:xfrm>
            <a:off x="1604880" y="1112760"/>
            <a:ext cx="1800360" cy="134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21,0% критический уровень дезадапт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5337000" y="2160"/>
            <a:ext cx="3411720" cy="543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нников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030320" y="521280"/>
            <a:ext cx="3313080" cy="543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ffffff"/>
                </a:solidFill>
                <a:uFillTx/>
                <a:latin typeface="Times New Roman"/>
              </a:rPr>
              <a:t>детских домов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5A03-58C4-4897-9F1E-960A0FD0EC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6623-A983-444A-A927-BF6AE671C2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539640" y="404640"/>
            <a:ext cx="8064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Практические рекомендац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46160" y="1052640"/>
            <a:ext cx="8962920" cy="53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нформирование психологов образова-тельных учреждений об актуальности и распространенности суицидов у подрост-ков (результаты работы были доложены на совещании с руководителями образова-тельных учреждений, работа проводилась по согласованию с Министерством образования Забайкальского края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080D-65B0-4852-A057-82652E8E52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68200" y="2722680"/>
            <a:ext cx="4469040" cy="29289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рвичная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предотвращение суицидов у контингента лиц, находящихся в состоянии психологического кризиса и представляющих собой группу рис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4987800" y="2813040"/>
            <a:ext cx="3456000" cy="211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торичная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предотвращение повторных суицидальных действ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"/>
          <p:cNvSpPr/>
          <p:nvPr/>
        </p:nvSpPr>
        <p:spPr>
          <a:xfrm rot="2700000">
            <a:off x="3274920" y="1477440"/>
            <a:ext cx="217440" cy="1224000"/>
          </a:xfrm>
          <a:prstGeom prst="downArrow">
            <a:avLst>
              <a:gd name="adj1" fmla="val 50000"/>
              <a:gd name="adj2" fmla="val 140728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"/>
          <p:cNvSpPr/>
          <p:nvPr/>
        </p:nvSpPr>
        <p:spPr>
          <a:xfrm rot="18900000">
            <a:off x="5866920" y="1447560"/>
            <a:ext cx="217440" cy="1224000"/>
          </a:xfrm>
          <a:prstGeom prst="downArrow">
            <a:avLst>
              <a:gd name="adj1" fmla="val 50000"/>
              <a:gd name="adj2" fmla="val 140728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"/>
          <p:cNvSpPr/>
          <p:nvPr/>
        </p:nvSpPr>
        <p:spPr>
          <a:xfrm>
            <a:off x="1030320" y="433080"/>
            <a:ext cx="7286760" cy="109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Профилактика суицидального поведе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346E-BAE7-411E-9232-263F02D9D52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1890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Оказание медицинской и психологической помощи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при кризисных состояниях в Забайкальском крае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1494000"/>
            <a:ext cx="1822320" cy="1503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Министерств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социально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защит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населе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1494000"/>
            <a:ext cx="1676160" cy="1503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Министерств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образова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"/>
          <p:cNvSpPr/>
          <p:nvPr/>
        </p:nvSpPr>
        <p:spPr>
          <a:xfrm>
            <a:off x="4419720" y="1494000"/>
            <a:ext cx="2133360" cy="1503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Министерств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здравоохран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1494000"/>
            <a:ext cx="1523880" cy="1503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ГОУ ВП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ЧГ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3581280"/>
            <a:ext cx="1524240" cy="26672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деле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«Телефон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оверия» 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труктур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центр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«Доверие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"/>
          <p:cNvSpPr/>
          <p:nvPr/>
        </p:nvSpPr>
        <p:spPr>
          <a:xfrm>
            <a:off x="1981080" y="3581280"/>
            <a:ext cx="1524240" cy="26672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бине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сихоло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ическо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мощи 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нтр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«Доверие»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«Росток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3581280"/>
            <a:ext cx="1524240" cy="26672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бинет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сихоло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ическо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мощ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центрах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«Успех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«Дар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«Лад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"/>
          <p:cNvSpPr/>
          <p:nvPr/>
        </p:nvSpPr>
        <p:spPr>
          <a:xfrm>
            <a:off x="5638680" y="3581280"/>
            <a:ext cx="1524240" cy="26672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сихоте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певти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ески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нтр 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бинето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сихологи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еско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мощ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"/>
          <p:cNvSpPr/>
          <p:nvPr/>
        </p:nvSpPr>
        <p:spPr>
          <a:xfrm>
            <a:off x="7391520" y="3581280"/>
            <a:ext cx="1523880" cy="26672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сихоте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певти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ески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нтр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Г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10920" y="2997360"/>
            <a:ext cx="360360" cy="50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1042920" y="2997360"/>
            <a:ext cx="1776600" cy="583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2997360"/>
            <a:ext cx="1523880" cy="583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"/>
          <p:cNvSpPr/>
          <p:nvPr/>
        </p:nvSpPr>
        <p:spPr>
          <a:xfrm>
            <a:off x="5364000" y="2997360"/>
            <a:ext cx="1113120" cy="583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"/>
          <p:cNvSpPr/>
          <p:nvPr/>
        </p:nvSpPr>
        <p:spPr>
          <a:xfrm>
            <a:off x="7524720" y="2997360"/>
            <a:ext cx="781200" cy="583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C27B-7554-446D-9DDD-52CE6A30F8D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8600" y="1584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ерспективный план развит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кризисной службы Забайкальского кра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"/>
          <p:cNvSpPr/>
          <p:nvPr/>
        </p:nvSpPr>
        <p:spPr>
          <a:xfrm>
            <a:off x="5148360" y="4363560"/>
            <a:ext cx="3671640" cy="207396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Психотерапевтическое отделение (палата) для кризисных состояний на базе новой псих. больницы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"/>
          <p:cNvSpPr/>
          <p:nvPr/>
        </p:nvSpPr>
        <p:spPr>
          <a:xfrm>
            <a:off x="2865600" y="2429640"/>
            <a:ext cx="3816360" cy="167796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УЗ Гор.больница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1 отделение или палата кризисных состояний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"/>
          <p:cNvSpPr/>
          <p:nvPr/>
        </p:nvSpPr>
        <p:spPr>
          <a:xfrm>
            <a:off x="216000" y="4330080"/>
            <a:ext cx="3851280" cy="207396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Психотерапевтический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центр: «Телефон доверия», кабинет психологической помощ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1258920" y="1341360"/>
            <a:ext cx="3530520" cy="2951280"/>
          </a:xfrm>
          <a:prstGeom prst="pie">
            <a:avLst/>
          </a:prstGeom>
          <a:noFill/>
          <a:ln w="856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Line 29"/>
          <p:cNvSpPr/>
          <p:nvPr/>
        </p:nvSpPr>
        <p:spPr>
          <a:xfrm>
            <a:off x="4788000" y="1341360"/>
            <a:ext cx="0" cy="936720"/>
          </a:xfrm>
          <a:prstGeom prst="line">
            <a:avLst/>
          </a:prstGeom>
          <a:ln w="85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Line 32"/>
          <p:cNvSpPr/>
          <p:nvPr/>
        </p:nvSpPr>
        <p:spPr>
          <a:xfrm>
            <a:off x="4788000" y="1341360"/>
            <a:ext cx="3384360" cy="2951280"/>
          </a:xfrm>
          <a:prstGeom prst="pie">
            <a:avLst/>
          </a:prstGeom>
          <a:noFill/>
          <a:ln w="856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FA63-5E1A-49A2-8E74-6D6CE491C84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дети-цветы жизни_конкурс_01"/>
          <p:cNvPicPr/>
          <p:nvPr/>
        </p:nvPicPr>
        <p:blipFill>
          <a:blip r:embed="rId1"/>
          <a:stretch/>
        </p:blipFill>
        <p:spPr>
          <a:xfrm>
            <a:off x="3114720" y="3573360"/>
            <a:ext cx="2752560" cy="321336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1835280" y="1125720"/>
            <a:ext cx="54356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ffff"/>
                </a:solidFill>
                <a:latin typeface="Times New Roman"/>
              </a:rPr>
              <a:t>Успехов в работе!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6182-6140-4400-BD66-586531532E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Смертность по причине самоубийств в Забайкальском крае, СибФО, РФ (на 100 тыс.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1" name="Rectangle 15"/>
          <p:cNvGraphicFramePr/>
          <p:nvPr/>
        </p:nvGraphicFramePr>
        <p:xfrm>
          <a:off x="103320" y="1298520"/>
          <a:ext cx="849924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20" y="1298520"/>
                    <a:ext cx="8499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285040" y="4319280"/>
            <a:ext cx="793800" cy="4381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6,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"/>
          <p:cNvSpPr/>
          <p:nvPr/>
        </p:nvSpPr>
        <p:spPr>
          <a:xfrm>
            <a:off x="8278920" y="3754440"/>
            <a:ext cx="793800" cy="4381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8,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"/>
          <p:cNvSpPr/>
          <p:nvPr/>
        </p:nvSpPr>
        <p:spPr>
          <a:xfrm>
            <a:off x="8282160" y="2501640"/>
            <a:ext cx="720720" cy="438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1,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DE47-B1EB-41FA-9D5E-B911303315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277920"/>
            <a:ext cx="892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Смертность населения от самоубийств в Забайкалье по возрастным группам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7" name="Rectangle 15"/>
          <p:cNvGraphicFramePr/>
          <p:nvPr/>
        </p:nvGraphicFramePr>
        <p:xfrm>
          <a:off x="233280" y="1628640"/>
          <a:ext cx="865836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628640"/>
                    <a:ext cx="86583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116000" y="1628640"/>
            <a:ext cx="719280" cy="4032360"/>
          </a:xfrm>
          <a:prstGeom prst="ellips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CAF2-F07D-466D-960E-9E531040F0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08000" y="-27000"/>
            <a:ext cx="8893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00"/>
                </a:solidFill>
                <a:uFillTx/>
                <a:latin typeface="Times New Roman"/>
              </a:rPr>
              <a:t>Суицидальные тенденции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Исаев Д.С., Шерстнев К.В., 20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79280" y="1248840"/>
            <a:ext cx="2160720" cy="49932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тсутст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826920" y="3636360"/>
            <a:ext cx="6697800" cy="4993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Times New Roman"/>
              </a:rPr>
              <a:t>суицидальные намер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1308240"/>
            <a:ext cx="432000" cy="333360"/>
          </a:xfrm>
          <a:custGeom>
            <a:avLst/>
            <a:gdLst>
              <a:gd name="textAreaLeft" fmla="*/ 54000 w 432000"/>
              <a:gd name="textAreaRight" fmla="*/ 378000 w 43200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916360" y="1209240"/>
            <a:ext cx="5543280" cy="4993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антивитальные пережи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"/>
          <p:cNvSpPr/>
          <p:nvPr/>
        </p:nvSpPr>
        <p:spPr>
          <a:xfrm>
            <a:off x="8532720" y="1308240"/>
            <a:ext cx="432000" cy="333360"/>
          </a:xfrm>
          <a:custGeom>
            <a:avLst/>
            <a:gdLst>
              <a:gd name="textAreaLeft" fmla="*/ 54000 w 432000"/>
              <a:gd name="textAreaRight" fmla="*/ 378000 w 43200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792000" y="2071080"/>
            <a:ext cx="7599600" cy="499320"/>
          </a:xfrm>
          <a:prstGeom prst="rect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Times New Roman"/>
              </a:rPr>
              <a:t>пассивные суицидальные мыс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"/>
          <p:cNvSpPr/>
          <p:nvPr/>
        </p:nvSpPr>
        <p:spPr>
          <a:xfrm>
            <a:off x="8494560" y="2171880"/>
            <a:ext cx="432000" cy="333360"/>
          </a:xfrm>
          <a:custGeom>
            <a:avLst/>
            <a:gdLst>
              <a:gd name="textAreaLeft" fmla="*/ 54000 w 432000"/>
              <a:gd name="textAreaRight" fmla="*/ 378000 w 43200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826920" y="2879280"/>
            <a:ext cx="6697800" cy="499320"/>
          </a:xfrm>
          <a:prstGeom prst="rect">
            <a:avLst/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Times New Roman"/>
              </a:rPr>
              <a:t>суицидальные замыс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"/>
          <p:cNvSpPr/>
          <p:nvPr/>
        </p:nvSpPr>
        <p:spPr>
          <a:xfrm>
            <a:off x="7667640" y="296388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7188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96388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716280"/>
            <a:ext cx="431640" cy="333360"/>
          </a:xfrm>
          <a:custGeom>
            <a:avLst/>
            <a:gdLst>
              <a:gd name="textAreaLeft" fmla="*/ 54000 w 431640"/>
              <a:gd name="textAreaRight" fmla="*/ 378000 w 4316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_s1030"/>
          <p:cNvSpPr/>
          <p:nvPr/>
        </p:nvSpPr>
        <p:spPr>
          <a:xfrm>
            <a:off x="1487520" y="4275000"/>
            <a:ext cx="2724120" cy="2382840"/>
          </a:xfrm>
          <a:prstGeom prst="ellipse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мысли, замысл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намер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_s1030"/>
          <p:cNvSpPr/>
          <p:nvPr/>
        </p:nvSpPr>
        <p:spPr>
          <a:xfrm>
            <a:off x="3995640" y="4797360"/>
            <a:ext cx="1695600" cy="14400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пыт-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_s1028"/>
          <p:cNvSpPr/>
          <p:nvPr/>
        </p:nvSpPr>
        <p:spPr>
          <a:xfrm>
            <a:off x="5551560" y="5187960"/>
            <a:ext cx="718920" cy="717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5084640"/>
            <a:ext cx="1439640" cy="82548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заверш. суици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01C9-3054-43DF-8DEA-04F91FFE77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Rectangle 15"/>
          <p:cNvGraphicFramePr/>
          <p:nvPr/>
        </p:nvGraphicFramePr>
        <p:xfrm>
          <a:off x="52560" y="1413000"/>
          <a:ext cx="8551800" cy="50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413000"/>
                    <a:ext cx="855180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201160" y="4734360"/>
            <a:ext cx="684000" cy="49896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,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3778200" y="6093000"/>
            <a:ext cx="50472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4321080" y="5975280"/>
            <a:ext cx="3600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Читинская обла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050920" y="6108840"/>
            <a:ext cx="432000" cy="358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2482920" y="5991120"/>
            <a:ext cx="100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Р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2689920"/>
            <a:ext cx="865080" cy="498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,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119160" y="259560"/>
            <a:ext cx="884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мертность по причине самоубийств у детей и подростков в Забайкальском крае (на 100тыс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9640" y="3500280"/>
            <a:ext cx="7993080" cy="505080"/>
            <a:chOff x="539640" y="3500280"/>
            <a:chExt cx="7993080" cy="505080"/>
          </a:xfrm>
        </p:grpSpPr>
        <p:sp>
          <p:nvSpPr>
            <p:cNvPr id="97" name=""/>
            <p:cNvSpPr/>
            <p:nvPr/>
          </p:nvSpPr>
          <p:spPr>
            <a:xfrm>
              <a:off x="2843280" y="3500280"/>
              <a:ext cx="4825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021"/>
                  </a:solidFill>
                  <a:latin typeface="Times New Roman"/>
                </a:rPr>
                <a:t>Критический уровень (ВОЗ)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640" y="3514680"/>
              <a:ext cx="799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101080" y="3223080"/>
            <a:ext cx="792000" cy="49896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,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2B93-282A-4259-9F6A-98E1547CE1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Rectangle 15"/>
          <p:cNvGraphicFramePr/>
          <p:nvPr/>
        </p:nvGraphicFramePr>
        <p:xfrm>
          <a:off x="149400" y="1341360"/>
          <a:ext cx="852624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1341360"/>
                    <a:ext cx="85262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453440" y="4447080"/>
            <a:ext cx="718920" cy="498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,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7451640" y="2286720"/>
            <a:ext cx="865440" cy="498960"/>
          </a:xfrm>
          <a:prstGeom prst="rect">
            <a:avLst/>
          </a:prstGeom>
          <a:solidFill>
            <a:srgbClr val="8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5,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263520" y="16560"/>
            <a:ext cx="86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мертность по причине самоубийств у детей и подростков в Забайкальском кра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возрастные особенност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на 100тыс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4115520"/>
            <a:ext cx="865440" cy="49896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,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8217000" y="4677480"/>
            <a:ext cx="574560" cy="498960"/>
          </a:xfrm>
          <a:prstGeom prst="rect">
            <a:avLst/>
          </a:prstGeom>
          <a:solidFill>
            <a:srgbClr val="33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,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5389-F00D-4D92-8A84-AF44B1497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Rectangle 15"/>
          <p:cNvGraphicFramePr/>
          <p:nvPr/>
        </p:nvGraphicFramePr>
        <p:xfrm>
          <a:off x="0" y="1405080"/>
          <a:ext cx="889308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5080"/>
                    <a:ext cx="88930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272360" y="2715120"/>
            <a:ext cx="826920" cy="498960"/>
          </a:xfrm>
          <a:prstGeom prst="rect">
            <a:avLst/>
          </a:prstGeom>
          <a:solidFill>
            <a:srgbClr val="8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7,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7272360" y="3943800"/>
            <a:ext cx="828720" cy="498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,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263520" y="16560"/>
            <a:ext cx="855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мертность по причине самоубийств у детей и подростков в Забайкальском кра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гендерные особенност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(на 100тыс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8137440" y="4288320"/>
            <a:ext cx="827280" cy="49896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,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8137440" y="4864680"/>
            <a:ext cx="827280" cy="498960"/>
          </a:xfrm>
          <a:prstGeom prst="rect">
            <a:avLst/>
          </a:prstGeom>
          <a:solidFill>
            <a:srgbClr val="33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,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E131-8E5D-472D-9CDD-3B9275FD94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7:19:16Z</dcterms:created>
  <dc:creator>NikGovorin</dc:creator>
  <dc:description/>
  <dc:language>en-US</dc:language>
  <cp:lastModifiedBy>User</cp:lastModifiedBy>
  <dcterms:modified xsi:type="dcterms:W3CDTF">2010-11-10T07:45:57Z</dcterms:modified>
  <cp:revision>580</cp:revision>
  <dc:subject/>
  <dc:title>Слайд 1</dc:title>
</cp:coreProperties>
</file>