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F236-47DE-47A5-A014-FB985B2D0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B775-1465-4321-AD85-921AF12B7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9338-A0C5-40EF-82EE-8922A80C6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8105-B879-4B66-978A-8FF49B614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BFEB6-9328-4975-A313-22C680585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654A0-D1E0-419A-9408-9A3C4EEEB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14AD4-BEB6-4B23-A939-A1F5A1824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B9577-B999-48C0-B4F9-E4F4F918F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97C39-E3A9-4B2B-B061-0DBAE2D3C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18134-A845-4F50-B3C0-9769919F3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C7B0D-242F-48B4-8CC6-2E1A50935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E548-B477-4F9D-98BC-E4206059E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B2928-F18D-49F0-8B0B-81829A5CD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37E3D-7E84-4742-9C73-7C272C6EF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226F4-C8C3-41AA-84C4-724DCBA69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79946-D42F-466B-BB6D-DAF936C15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6389C-3C09-40AE-A7D6-C4C90C3B7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49E0-B36E-4809-8284-199F057DE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45B3-E5A8-4D60-AA07-3BBAE5A39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D959-12F6-4CDC-BB1B-8961DE9BE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098B-5340-4881-BC5F-E413B3931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6022-0BE7-4A40-9685-61F8AA35D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13BC-96DF-49FE-A1BB-8D5BA5EE7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2474-F888-4D9A-B9E4-DA078639A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0FFF0-3A31-4C04-BA78-ECAC5DCC330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AD601-5977-4A5D-953B-97206DB76F3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000" y="476280"/>
            <a:ext cx="676908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Аттитюды сексуальных правонарушителей, связанные с восприятием образа женщины и ребенка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539640" y="2997000"/>
            <a:ext cx="6624720" cy="26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0066"/>
                </a:solidFill>
                <a:latin typeface="Arial"/>
              </a:rPr>
              <a:t>Серов А.Д., Сыроквашина К.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0066"/>
                </a:solidFill>
                <a:latin typeface="Arial"/>
              </a:rPr>
              <a:t>ФГУ «ГНЦ ССП им. В.П. Сербского» Минздравсоцразви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Контингент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лица, совершившие насильственные сексуальные действия по отношению к женщинам (12 человек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лица, совершившие сексуальные действия по отношению к несовершеннолетним (20 человек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Эмоциональное восприятие </a:t>
            </a:r>
            <a:br>
              <a:rPr sz="2800"/>
            </a:b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образа женщины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84358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684360" y="1773360"/>
          <a:ext cx="7775280" cy="453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773360"/>
                    <a:ext cx="7775280" cy="45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Эмоциональное восприятие </a:t>
            </a:r>
            <a:br>
              <a:rPr sz="2800"/>
            </a:b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образа ребенка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468360" y="1916280"/>
          <a:ext cx="7993080" cy="432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916280"/>
                    <a:ext cx="7993080" cy="43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Анализ результатов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Для лиц, совершивших сексуальные правонарушения против женщин, образ женщины и образ ребенка являются эмоционально насыщенными, значимыми. Модальность этих эмоций может быть различной, но почти всегда отношение к образу женщины содержит в себе, по крайней мере, часть положительных характеристик (в случае амбивалентного отношения)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Для лиц, совершивших сексуальные правонарушения против детей, напротив, свойственна слабая эмоциональная насыщенность образов ребенка и женщины, а также общая оскудненность эмоциональной сферы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758880"/>
            <a:ext cx="7534440" cy="15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66"/>
                </a:solidFill>
                <a:latin typeface="Arial"/>
              </a:rPr>
              <a:t>Аттитюды по отношению к изнасилованиям </a:t>
            </a:r>
            <a:br>
              <a:rPr sz="2400"/>
            </a:br>
            <a:r>
              <a:rPr b="1" lang="en-US" sz="2400" spc="-1" strike="noStrike">
                <a:solidFill>
                  <a:srgbClr val="330066"/>
                </a:solidFill>
                <a:latin typeface="Arial"/>
              </a:rPr>
              <a:t>у лиц, совершивших </a:t>
            </a:r>
            <a:br>
              <a:rPr sz="2400"/>
            </a:br>
            <a:r>
              <a:rPr b="1" lang="en-US" sz="2400" spc="-1" strike="noStrike">
                <a:solidFill>
                  <a:srgbClr val="330066"/>
                </a:solidFill>
                <a:latin typeface="Arial"/>
              </a:rPr>
              <a:t>сексуальные преступления против женщин и у лиц, совершивших сексуальные преступления против несовершеннолетних 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760320" y="2660760"/>
          <a:ext cx="3835440" cy="2441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0320" y="2660760"/>
                    <a:ext cx="3835440" cy="244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4572000" y="2637000"/>
          <a:ext cx="3924360" cy="2419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2637000"/>
                    <a:ext cx="3924360" cy="241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950760" y="5105520"/>
            <a:ext cx="2973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Анализ результатов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оцент показавших высокий уровень согласия с данными аттитюдами больше в первой группе (на 28%), однако различия статистически не значимы (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&gt;0,05)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, большая часть респондентов в обеих группах показала толерантность к данным установкам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оответствие общественным стереотипам, присущим некоторым социальным категориям, о том, что женщина полностью или частично, виновата в произошедшем изнасиловани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000" y="836640"/>
            <a:ext cx="748836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66"/>
                </a:solidFill>
                <a:latin typeface="Arial"/>
              </a:rPr>
              <a:t>Аттитюды по отношению к сексуальному злоупотреблению детьми у лиц, совершивших сексуальные преступления против женщин и у лиц, совершивших сексуальные преступления против несовершеннолетних.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971640" y="2870280"/>
          <a:ext cx="3241440" cy="229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2870280"/>
                    <a:ext cx="3241440" cy="22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4572000" y="2798640"/>
          <a:ext cx="3673440" cy="238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2798640"/>
                    <a:ext cx="3673440" cy="238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Анализ результатов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9640" y="177336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огласие с данными утверждениями значимо выше в группе совершивших преступления против несовершеннолетних (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&lt;0,05)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Дифференцирующий признак: наличие данных установок у лиц, совершивших правонарушения против несовершеннолетних, свидетельствует о включенности данных стереотипов в общий комплекс факторов, способствующих совершению сексуальных действий с детьми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огнитивные представления лиц, совершивших правонарушения против несовершеннолетних, искажены достаточно сильно для того чтобы преодолеть существующие в обществе табу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Выводы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ицам, совершившим сексуальные правонарушения против несовершеннолетних, свойственна слабая эмоциональная насыщенность образов ребенка и женщины, а также общая скудность эмоциональной сфе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 лиц, совершивших правонарушения против несовершеннолетних, выявляются специфичные когнитивные искажения образа ребенка, приписывающие детям инициативу вступать в сексуальный контакт со взрослы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гативные сексуальные стереотипы, касающиеся детей, включены в общий комплекс факторов, способствующих совершению сексуальных действий с несовершеннолетними.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331640" y="2420640"/>
            <a:ext cx="6337080" cy="25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0066"/>
                </a:solidFill>
                <a:latin typeface="Arial"/>
              </a:rPr>
              <a:t>Спасибо за внимание !</a:t>
            </a:r>
            <a:br>
              <a:rPr sz="4800"/>
            </a:br>
            <a:br>
              <a:rPr sz="4800"/>
            </a:b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       </a:t>
            </a: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0066"/>
                </a:solidFill>
                <a:latin typeface="Arial"/>
              </a:rPr>
              <a:t>serov-up@narod.ru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475920"/>
            <a:ext cx="75438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Особенности восприятия  образа жертвы сексуальными правонарушителями 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последние годы, при изучении факторов риска – интерес к такому фактору, как восприятие образа жертвы сексуальными правонарушителями [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rn May F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own 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, 2005]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держания представлений сексуальных правонарушителей об убеждениях жертвы часто не соответствуют им в реальност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терпретация правонарушителями обычного, не связанного с сексуальностью, поведения жертвы, как отражающего ее сексуальные намере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75438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0066"/>
                </a:solidFill>
                <a:latin typeface="Arial"/>
              </a:rPr>
              <a:t>Негативные аттитюды в сфере сексуальности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9280" y="1916280"/>
            <a:ext cx="814716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Формируются в детстве, в том числе могут быть связаны с опытом сексуального насил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нимают с правонарушителя ответственность за совершенное деяние, частично или полностью перекладывая ее на жертву, а также, приписывая жертве инициативнос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циальный фактор: деструктивные мифы и стереотипы, преобладающие в обществе, а также уровень сексуальной культур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86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0066"/>
                </a:solidFill>
                <a:latin typeface="Arial"/>
              </a:rPr>
              <a:t>Пример аттитюдов, приписывающих женщинам желание быть изнасилованными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«Многие женщины, в тайне, хотели бы быть изнасилованными»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«Когда женщины надевают короткие юбки или обтягивающие топы – они ищут проблем»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«Частенько, когда женщины говорят мужчине «нет» - они просто заигрывают; на самом же деле они имеют в виду «да»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Пример аттитюдов, </a:t>
            </a:r>
            <a:br>
              <a:rPr sz="2800"/>
            </a:b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приписывающих детям желание </a:t>
            </a:r>
            <a:br>
              <a:rPr sz="2800"/>
            </a:b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заниматься сексом с взрослыми 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2026800"/>
            <a:ext cx="82296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49"/>
              </a:spcBef>
              <a:buClr>
                <a:srgbClr val="330066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«Некоторые дети являются достаточно зрелыми для того, чтобы получать удовольствие от секса со взрослыми»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49"/>
              </a:spcBef>
              <a:buClr>
                <a:srgbClr val="330066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«Если дети не оказывают сопротивления, когда взрослые трогают их, в сексуальном контексте, – они нормально себя чувствуют»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Гипотез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ттитюды, которыми сексуальные правонарушители руководствуются при оценке поведения своих жертв, характеризуются наличием когнитивных искажений и их содержание связано с характером совершаемых правонарушени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Методы исследования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SONAR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e Sex Offender Need Assessment Rating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 – шкала оценки потребностей сексуальных правонарушителей) (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Hanson R.K.,Harris A., 2000)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Методика «</a:t>
            </a: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Кодирование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» (Ткаченко А.А., Введенский Г.Е., Дворянчиков Н.В., 2001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ЦТО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 (цветовой тест отношений) (Эткинд А.М., 1988; Дозорцева Е.Г., 1999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66"/>
                </a:solidFill>
                <a:latin typeface="Arial"/>
              </a:rPr>
              <a:t>SONAR</a:t>
            </a:r>
            <a:r>
              <a:rPr b="1" lang="en-US" sz="2200" spc="-1" strike="noStrike">
                <a:solidFill>
                  <a:srgbClr val="330066"/>
                </a:solidFill>
                <a:latin typeface="Arial"/>
              </a:rPr>
              <a:t> </a:t>
            </a:r>
            <a:br>
              <a:rPr sz="2200"/>
            </a:br>
            <a:r>
              <a:rPr b="1" lang="ru-RU" sz="2200" spc="-1" strike="noStrike">
                <a:solidFill>
                  <a:srgbClr val="330066"/>
                </a:solidFill>
                <a:latin typeface="Arial"/>
              </a:rPr>
              <a:t>(</a:t>
            </a:r>
            <a:r>
              <a:rPr b="1" lang="en-US" sz="2200" spc="-1" strike="noStrike">
                <a:solidFill>
                  <a:srgbClr val="330066"/>
                </a:solidFill>
                <a:latin typeface="Arial"/>
              </a:rPr>
              <a:t>The Sex Offender Need Assessment Rating</a:t>
            </a:r>
            <a:r>
              <a:rPr b="1" lang="ru-RU" sz="2200" spc="-1" strike="noStrike">
                <a:solidFill>
                  <a:srgbClr val="330066"/>
                </a:solidFill>
                <a:latin typeface="Arial"/>
              </a:rPr>
              <a:t> –</a:t>
            </a:r>
            <a:br>
              <a:rPr sz="2200"/>
            </a:br>
            <a:r>
              <a:rPr b="1" lang="ru-RU" sz="2200" spc="-1" strike="noStrike">
                <a:solidFill>
                  <a:srgbClr val="330066"/>
                </a:solidFill>
                <a:latin typeface="Arial"/>
              </a:rPr>
              <a:t> шкала оценки потребностей сексуальных правонарушителей) </a:t>
            </a:r>
            <a:endParaRPr b="1" lang="en-US" sz="2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Блок, оценивающий аттитюды по отношению к потенциальной жертве сексуальных правонарушителей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Две части: аттитюды по отношению к изнасилованиям женщин и аттитюды по отношению к сексуальным злоупотреблениям детьми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Испытуемому предлагается оценить степень собственного согласия с высказываниями: в первой части - приписывающим женщинам желание быть изнасилованными, во второй - приписывающим детям желание заниматься сексом с взрослым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 высказываниях обеих частей ответственность мужчины за совершенное деяние минимизируется [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Hanson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.;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Harris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., 2000]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2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Контингент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лица, совершившие сексуальные правонарушения и проходившие комплексную судебную сексолого-психиатрическую экспертизу в Государственном научном центре социальной и судебной психиатрии им. В.П. Сербского (22 человек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лица, совершившие сексуальные правонарушения и находящиеся на принудительном лечении в психиатрической клинике города Орел (10 человек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9T08:20:57Z</dcterms:created>
  <dc:creator>FuckYouBill</dc:creator>
  <dc:description/>
  <dc:language>en-US</dc:language>
  <cp:lastModifiedBy>Sasha</cp:lastModifiedBy>
  <dcterms:modified xsi:type="dcterms:W3CDTF">2010-11-09T06:48:38Z</dcterms:modified>
  <cp:revision>43</cp:revision>
  <dc:subject/>
  <dc:title>Установки сексуальных правонарушителей, связанные с образом жертвы.</dc:title>
</cp:coreProperties>
</file>