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3CD9-4866-4BC2-B56D-174F0F87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D459-947D-4355-A91D-537FE15B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16F8-3BDD-4B45-96D3-6EB60417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C334-A4E6-4EFD-8638-591B9309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C98C-B954-4524-9DE6-5F10C98C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19A5-D9E6-4DE3-BF89-77CFF3D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F8B9-9D5A-4F07-97B5-EA346AD8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55EE-E445-4A92-8EB5-8EE24DB8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213D-9E53-4D3F-BFF9-C74DBEA6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2C45-FE13-43D2-A881-4284A509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E64F-0B56-4F77-990C-2868C819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185E-F6D0-45AD-BEED-29C5F298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2593-DFA0-402E-860E-420BC006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AC14-6AC5-411B-BB34-F675413C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3151-58F0-457C-BF62-52A2418F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F7B7-0768-4BD2-B05B-7165CC88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AA88-5D4F-4CBD-901C-F999BDCD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D90A-CA9B-4DE2-93C1-862386BF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2634-3A23-4194-9C41-D716AEFA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57E7-BB6F-4216-80D6-63E695F0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46BE-E313-460C-970A-37E8FE00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2EBB-6F3D-471C-B734-A964D8CB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8993-984B-48A8-9D16-F28ECF96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77220-8626-45B4-8BC8-109A4E02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2165-F2C8-473B-8FEA-8F45BE38BB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402F-F7D2-4FC9-8581-5ED472CA8F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КОМПЛЕКСНАЯ КОРРЕКЦИЯ ПСИХОСОМАТИЧЕСКИХ РАССТРОЙСТВ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В ПЕДИАТРИЧЕСКОЙ КЛИНИК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4876920"/>
            <a:ext cx="89917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Ц психического здоровья РАМН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Москв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МОСКВА, 9-12 ноября 2010 г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2d050"/>
                </a:solidFill>
                <a:latin typeface="Times New Roman"/>
              </a:rPr>
              <a:t>А.А. СЕВЕРНЫ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Garamond"/>
              </a:rPr>
              <a:t>ОПРЕДЕЛ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560">
              <a:lnSpc>
                <a:spcPts val="25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СОМАТИЧЕСКАЯ ПАТОЛОГИЯ –симптомокомплексы, включающие функциональные психические и функциональные (во всяком случае, на первых этапах заболевания) вегетосоматические расстройства с преобладанием в клинической картине последних, которые      и служат первоначальной диагностической и терапевтической «мишенью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560">
              <a:lnSpc>
                <a:spcPts val="25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ОНАЛЬНЫЕ ВЕГЕТОСОМАТИЧЕСКИЕ РАССТРОЙСТВА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5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клинически верифицируемые наруше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5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егетосоматической сфере при отсутствии верифицированного органического патологического субстрата, выступающие в единстве с психопатологической симптоматикой в рамках целостного психовегетативного синдром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560">
              <a:lnSpc>
                <a:spcPts val="25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Тиле (1976, 1958)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5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ВЕГЕТАТИВНЫЙ СИНДРОМ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5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… закономерное взаимовлияние психических (аффективных) и вегетативных проявлений»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КЛАССИФИКАЦИЯ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ПСИХОСОМАТИЧЕСКИХ РАССТРОЙСТВ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В ПЕДИАТРИЧЕСКОЙ ПРАКТИК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ts val="19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Состояния, связанные с ранней эмоциональной депривацией, - младенческий маразм, анаклитическая депресс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ts val="19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Соматовегетативные расстройства как проявление конституциональной предрасположенности невропатического типа к патологическому реагированию на психогенные воздейств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ts val="19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Соматовегетативные расстройства как проявление тревоги и невербализуемых (подавляемых) страхов – экзистенциальных и ситуативн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ts val="19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Многообразные синдромально очерченные детско-подростковые специфические и типические расстройства с вегетосоматической манифестацией: анорексии, ожирения, ювенильная желтушность, диарея и запоры, энурез и энкопрез и др., а также менее привязанные к возрасту – неспецифические дерматиты, мигрени, язвенный колит, астматические состояния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ts val="19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Наиболее многочисленная группа разнообразных проявлений т. н. ВСД – дискинезии и другие расстройства ЖКТ, проявления колебаний сосудистого тонуса (гипер- и гипотензия), нарушения сердечного ритма, астмоподобные расстройства дыхания (диспноэ), псевдоневрологические нарушения (астеноподобные расстройства, тики, кривошея и др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ПРЕДЕЛЕНИЕ БОЛЬНЫХ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СОМАТИЧЕСКИМ ДИАГНОЗА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57 больных в возрасте от 3 до 17 лет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5 - с наджелудочковой пароксизмальной тахикардие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9 – с функциональной гипертермией и  разнообразными функциональными сердечно-сосудистыми нарушениями, т. н. ВСД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- с функциональными расстройствами желудочно-кишечного тракт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 – с атопическими дерматитами и функциональными расстройствами дыха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ТЛИЧИЯ ПРОЯВЛЕНИЙ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ФУНКЦИОНАЛЬНОЙ ВЕГЕТАТИВНОЙ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АТОЛОГ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1. Отсутствие верифицируемого современными диагностическими методами органического субстрата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2. Флюктуирующий характер со спонтанными обострениями и ремиссиями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3. Нетипичная динамика проявлений (особенно ярко при гипертермиях)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4. Отсутствие явной закономерной зависимости от негативных внешних воздействий физического характера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5. Нередко заметная психогенная зависимость (утренние рвоты, диспноэ на уроке и др.)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6. Отличия личностного реагирования, особенно в манифестном периоде и при экзацербациях (детская особенность)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СИХОПАТОЛОГИЧЕСКИЕ РАССТРОЙСТВ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БОЛЬНЫХ С ФУНКЦИОНАЛЬНОЙ ВЕГЕТОСОМАТИЧЕСКОЙ ПАТОЛОГИЕ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1523880"/>
          <a:ext cx="8839440" cy="5383440"/>
        </p:xfrm>
        <a:graphic>
          <a:graphicData uri="http://schemas.openxmlformats.org/drawingml/2006/table">
            <a:tbl>
              <a:tblPr/>
              <a:tblGrid>
                <a:gridCol w="6324840"/>
                <a:gridCol w="1371600"/>
                <a:gridCol w="1143000"/>
              </a:tblGrid>
              <a:tr h="6145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92d050"/>
                          </a:solidFill>
                          <a:latin typeface="Times New Roman"/>
                          <a:ea typeface="Times New Roman"/>
                        </a:rPr>
                        <a:t>СИМПТОМОКОМПЛЕК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92d05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92d05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ффективная симптоматика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 ч. биполярн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,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ффективно-бредовые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 ч. с (псевдо)галлюцинациям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 расстройств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,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вротические и неврозоподобны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,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сихоорганические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 ч. эпилептиформны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Garamond"/>
              </a:rPr>
              <a:t>ПСИХОВЕГЕТАТИВНЫЙ ДИАТЕЗ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(в детской клинике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ts val="29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ЛИНИЧЕСКИЕ ПРОЯВЛЕНИЯ МНОГОФАКТОРНОЙ НАСЛЕДСТВЕННО-КОНСТИТУЦИОНАЛЬНОЙ ПРЕДРАСПОЛОЖЕННОСТИ КАК К СОБСТВЕННО ПСИХИЧЕСКИМ (ПРЕИМУЩЕСТВЕННО АФФЕКТИВНЫМ), ТАК И К ФУНКЦИОНАЛЬНЫМ СОМАТОВЕГЕТАТИВНЫМ РАССТРОЙСТВАМ, ПРОТЕКАЮЩИМ В ВИДЕ ФАЗ, РЕАКЦИЙ НА ФОНЕ ДИЗОНТОГЕНЕТИЧЕСКИХ НАРУШЕНИЙ И ОНТОГЕНЕТИЧЕСКИХ КРИЗОВЫХ ВЛИЯНИЙ В УСЛОВИЯХ ПРЕДРАСПОЛАГАЮЩИХ СЕМЕЙНЫХ И ДРУГИХ МИКРОСОЦИАЛЬНЫХ ВОЗДЕЙСТВИЙ, ПРИЧЕМ РЕГУЛЯТОРНЫЕ РАССТРОЙСТВА, СВЯЗАННЫЕ С ЭМОЦИОНАЛЬНОЙ СФЕРОЙ, МОГУТ СОЧЕТАТЬСЯ С КОНСТИТУЦИОНАЛЬНЫМИ (ВРОЖДЕННЫМИ) ОРГАННЫМИ АНОМАЛИЯ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НЫЕ ПРИНЦИПЫ КОРРЕКЦИИ ПСИХОВЕГЕТАТИВНЫХ РАССТРОЙСТВ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ДЕТЕЙ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61920">
              <a:lnSpc>
                <a:spcPts val="2999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) семейный подход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1920">
              <a:lnSpc>
                <a:spcPts val="2999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) комплексность (участие педиатра, психиатра, психотерапевта/семейного терапевта, патопсихолога, сочетание специфической соматотропной терапии с психофармакотерапией, психотерапией ребенка и семьи)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1920">
              <a:lnSpc>
                <a:spcPts val="2999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) минимальная достаточность психофармакотерапи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1920">
              <a:lnSpc>
                <a:spcPts val="2999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) сочетание с социотерапевтическими мероприятиям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1920">
              <a:lnSpc>
                <a:spcPts val="2999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5) учет особенностей психотропной терапии у детей с психовегетативными расстройств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СОБЕННОСТИ ПСИХОТРОПНО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ТЕРАПИИ ПРИ ПСИХОВЕГЕТАТИВНЫХ РАССТРОЙСТВАХ У ДЕТЕ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Максимально возможная вегетонейтральность (пиразидол, СИОЗС, феназепам, некоторые традиционные и атипичные нейролептики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Минимально возможная аллерген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. Большая или меньшая степень сочетания с соматотропной терапией (учет сочетаемости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. Вытеснение соматотропной терапии психотропными средствами по мере позитивной коррекционной динамики в течении данного обострения и в последующих экзацербац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5. Учет, в первую очередь, динамики психопатологической симптоматики (при условном игнорировании остаточной вегетативной, исходя из принципа «минимальной достаточности»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09T20:08:3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