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664D-B5E5-47A3-B1DF-1ACD83230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9EE-A735-4902-8193-DD73D376AE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3CC-B0CA-49AC-807E-0E976ECAE6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FFBA-EDF6-4EC2-9FBB-A7BCC67ECE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AD63-18A2-477E-9BBF-54DA8FBC17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2D0D-7002-4605-92FF-BDE58A0BAA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825-28DD-44E3-8076-C92544EC7B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40C-B681-4756-8810-4CF924279A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7E7E-FFE1-4CBC-B458-8DD08607CC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4D5E-9F51-4A33-8BAB-8923A83F1F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1A8-D1BC-4867-836C-70142C406F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F5C3-2602-4627-8BD7-5563BCF6AB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4260-FEE4-4F3C-B973-735E8006AF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946-7EBD-40F4-A9DF-6EBED37AE5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E9D-4227-484D-99DC-1AAE742B72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1443-51E9-4F3B-B592-DD6AE43A47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ED1-4AD4-454D-BD9C-0C8C0E8B57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F8A1-B814-4257-8C66-E8CA204406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6D9-4734-4DC1-A270-AEB3B9857AAD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33F-EC27-4140-A376-27936BA118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B43-9B95-4D7A-AAFC-87625C0591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B73-FC29-4D51-A432-FED81B07C7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2DB-5624-495D-B220-729ED2089F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C69F-92FF-4BBB-A6A2-D6DB4C861B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F5F0-7D9C-4EB6-8827-D1EB890616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E2E-831B-4FFB-AA5F-2F32E846AE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9A3-36E8-4164-A43E-7039C66B5C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706-E514-431E-A46A-E470655349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7D38-E535-465C-9C6A-5DCAD031E3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A84-821B-4B94-94D1-77D936AE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8E7-A04D-4E06-9AA7-8FBB5541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778-222A-44A1-B958-EF0DC77A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77C-3D23-4BB6-BF89-A2F3D6F9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373E-D4D4-449E-8B07-812C4517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392-232B-49CF-99F0-EC7BBA04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F6D-0DC2-4719-9315-FD874BE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1589-2C9C-45F4-ACB8-1DF03D53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3B6-D1FB-4ED2-BB30-097CEBA2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F9BC-DC97-42B5-BD12-3C1F4E1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9E8-A86F-4059-AB60-2AB4FF7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2E7-9830-4248-BEBC-1061E61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4D8B-637C-434F-B34E-65D3C7DA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67EA-AA0D-4541-8F63-076A3E4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511C-68B6-43F8-A5DA-1B088C9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F305-A431-47BE-9053-4BB9B752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B43-56B2-45A4-A46E-C2D1082E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59F5-4C8B-488E-B0BC-4CFF7EC6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4F94-1523-4B28-9560-003F571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5F63-C698-4BB3-A056-ED222B29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0E01-841C-43F6-A637-04C5A25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5C6B-EC0A-4E69-8A53-A89AA2E8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993-2A30-45A5-95CF-CE8F9D4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E765-0047-4984-98AB-B0CA9213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85B5-97F9-4E4D-B9A0-FB2CEFD4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882A-8A81-48A2-954D-4C5406F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D93B-BB24-4030-8EA1-CC9985D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D61A-95B4-4B09-9A26-4314A6EC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0841-133D-4DB8-BB69-5E173769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F709-8529-4273-8799-869AD0BE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371C-5A37-4F37-A9DA-D1635F60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AB49-DFB8-4522-9E11-72AC5000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E572-656C-45CB-ABD8-3D35293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28E-1393-4D41-AF5F-03127E74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C056-1731-4AD9-9AAD-BD2031A5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5205-50BF-4735-AB2F-1AA88D3F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3480-B3F0-4F52-96F1-662844C2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0385-D5B2-4901-97EF-8071534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8B9E2-9736-4C1F-AACA-DA7E4D11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8C6E-32BF-40DD-A1EB-FE2AE40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BE3C-2B2A-40F2-AF90-9B4F473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056B4-FC97-4D3B-8FF9-94B68A05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189C-D80B-4C09-A0E0-C5C80C76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735A-6606-4759-A1FA-A315E99F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5DB-5313-4EAC-A732-055F4016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A854-3A42-4979-BA59-554811A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7A511-E739-42E6-8467-64F01B7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4263-A714-410A-AEC5-64AC22C3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7222-CE94-4519-B5D4-9865D911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4C023-E61E-4B06-B6D2-ABBB5BF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4D09-E4CE-4848-9975-F74AD77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A18F-8077-4024-B37C-F6E0CE7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6B6B-F283-4F02-A3FF-1838288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EDC3-9CC5-4389-AABB-534C4F78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0EB0-9C30-41A1-84DE-5539EC37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DEC-32AA-43C4-9329-621E78F7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5B2C0-D163-4867-94CD-828D24B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F7D8-1D2C-4745-989B-B08D6DB8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4844-4405-4761-BC06-DDF81082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69B6-BB12-4A1F-A908-B2278FAD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66C8-167A-453A-9D33-DC7EE6AC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C85C-BFB2-4366-AAEC-59D0F43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0B1F-E342-4581-B5D1-CCCCA33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BFC2-5A7B-4861-9A16-1E318CA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4A7F-8829-493F-9D01-46602D4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72AA-FEDC-41E0-A1B2-E3C8C82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31C-BC73-4DD2-98B9-A813C58E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8E7D-3D86-48A1-B01B-CBBBA2E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2F4B-52F4-42BA-8198-EE996638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2496-448A-4A79-9AE3-F9678BB8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CAAB4-24C9-4BBD-A4F1-9C48813D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78A1E-9F0F-4F78-8654-41C882A3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F8F3A-7F82-4655-8C03-0D88A95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0FB7-CB9F-4FF8-B5E0-1F005F61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AD3E-B9E9-44B6-AFE9-0E36D91D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8274-0933-4ACE-9B92-E6DFBE26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BC610-D370-4F7A-A762-A9A642D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CF5-814F-4142-856E-7340B03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6879-8AA2-469C-856A-544FBD2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5A632-6EBC-49F3-AF90-B873BB9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F99B-6FDC-4A77-A8B9-DA9AC8F7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21ED-A4D0-4A51-8350-EA81DD07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E45D0-0BBD-48D6-87C1-21CFFDAD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32B97-F26E-4AB7-9048-F6B00E64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B6BF-722A-4676-B5B0-96B91142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D5DE-F382-468B-A9AE-81933AF8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7EC1-309A-4922-AF67-5EE6B61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F7CA9-A6F0-4997-B8E8-DE7B99A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42A-F520-44D3-A242-4023F02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CDBA-268A-4E74-ACDD-1361852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3EF3-0EBA-4FBC-9B77-776B7E4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0AA5F-2538-4A51-BE81-04288CB2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E080-0A8F-4D88-B0C5-423A5AB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28EA-4C02-4EAD-9F4A-3255F8A5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DB4D4-AB50-421D-A0DB-A6450BAE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FC951-A072-48B9-97D8-C568E5A8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1C1-7806-41C2-B908-1CEB2D3DC7B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5C1D-7A95-4535-A628-3FC4B9824F8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4955-A42B-460B-9EBB-FE1C22C2B86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A708-8472-4487-91FF-6E6304B43CB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3E5-7E47-4584-AC03-ECEC89B1F40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413-E697-4E97-BB02-03F7A6B8ECB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959-A62B-4FC0-B5F0-F040E4B93DFE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8456-5A83-49CB-8592-E7464400AB2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4"/>
          <p:cNvSpPr/>
          <p:nvPr/>
        </p:nvSpPr>
        <p:spPr>
          <a:xfrm>
            <a:off x="285840" y="1785960"/>
            <a:ext cx="8569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Стратегии развития детской психиат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психосоциальная реабили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entury Gothic"/>
              </a:rPr>
              <a:t>Е.В.КОР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entury Gothic"/>
              </a:rPr>
              <a:t>Московский НИИ психиат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entury Gothic"/>
              </a:rPr>
              <a:t>Отделение психической патологии детского и подростков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ъезд психиатров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сква 20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Диаграмма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2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1516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2789280" y="6429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504000" y="621504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3" descr=""/>
          <p:cNvPicPr/>
          <p:nvPr/>
        </p:nvPicPr>
        <p:blipFill>
          <a:blip r:embed="rId1"/>
          <a:stretch/>
        </p:blipFill>
        <p:spPr>
          <a:xfrm>
            <a:off x="281160" y="-85680"/>
            <a:ext cx="8600760" cy="1109520"/>
          </a:xfrm>
          <a:prstGeom prst="rect">
            <a:avLst/>
          </a:prstGeom>
          <a:ln w="0">
            <a:noFill/>
          </a:ln>
        </p:spPr>
      </p:pic>
      <p:pic>
        <p:nvPicPr>
          <p:cNvPr id="425" name="Диаграмма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158760" y="6188040"/>
            <a:ext cx="8394840" cy="676440"/>
          </a:xfrm>
          <a:prstGeom prst="rect">
            <a:avLst/>
          </a:prstGeom>
          <a:ln w="0">
            <a:noFill/>
          </a:ln>
        </p:spPr>
      </p:pic>
      <p:pic>
        <p:nvPicPr>
          <p:cNvPr id="427" name="Диаграмма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2"/>
          <p:cNvSpPr/>
          <p:nvPr/>
        </p:nvSpPr>
        <p:spPr>
          <a:xfrm>
            <a:off x="214200" y="614376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* p &lt; 0,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Заголовок 7" descr=""/>
          <p:cNvPicPr/>
          <p:nvPr/>
        </p:nvPicPr>
        <p:blipFill>
          <a:blip r:embed="rId1"/>
          <a:stretch/>
        </p:blipFill>
        <p:spPr>
          <a:xfrm>
            <a:off x="420840" y="-152280"/>
            <a:ext cx="8242200" cy="159048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7147080" y="2643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Диаграмма 8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0040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0"/>
          <p:cNvSpPr/>
          <p:nvPr/>
        </p:nvSpPr>
        <p:spPr>
          <a:xfrm>
            <a:off x="1571760" y="335772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428840" y="57862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3 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4071960" y="5786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13"/>
          <p:cNvSpPr/>
          <p:nvPr/>
        </p:nvSpPr>
        <p:spPr>
          <a:xfrm>
            <a:off x="6643800" y="5786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33200" y="281160"/>
            <a:ext cx="8358480" cy="14079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3"/>
          <p:cNvSpPr/>
          <p:nvPr/>
        </p:nvSpPr>
        <p:spPr>
          <a:xfrm>
            <a:off x="642960" y="2786040"/>
            <a:ext cx="242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ыраженность проявлений психического рас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5357880" y="2786040"/>
            <a:ext cx="278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Дефицит социального функцио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000680" y="278604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7"/>
          <p:cNvSpPr/>
          <p:nvPr/>
        </p:nvSpPr>
        <p:spPr>
          <a:xfrm>
            <a:off x="357120" y="42861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мплексный характер психосоциальной дезадаптации с ведущей ролью психосоциальных фак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ровень психосоциальной адаптации как интегральная характеристика психического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420840" y="49320"/>
            <a:ext cx="8405640" cy="1419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228600" y="1643040"/>
            <a:ext cx="8686800" cy="43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89520" indent="-3326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новление или формирование недостаточных  или утраченных (в условиях нарушенных в результате болезни когнитивных, мотивационных, эмоциональных ресурсов личности) навыков, знаний, умений взаимодействовать, решать проблемы, использовать стратегии совладания, обеспечивающих интеграцию в общество психически больных с изъянами социальной адаптации, обеспечивающих их интеграцию в сообществ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И.Я. Гурович, 2002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5242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214200" y="1857240"/>
            <a:ext cx="8715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енные отличия от психосоциальной реабилитации зрелой личности как в общих аспектах, так и в практической реализац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настоящего времени в детской психиатрии нет устоявшихся подходов к их проведению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озможность прямого переноса сформулированных принципов и практических наработок взрослой психиатри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ь разработки подходов к проведению мероприятий социотерапевтической направленности, учитывающих специфику детской психиатрии, с участием  как детских психиатров, так и психологов, психотерапевтов, педагогов, специалистов по социальной работе и др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ие форм и методов психосоциальной терапии в структуре комплексной психиатрической помощи детям и подросткам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214200" y="178596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ь учета возрастного фактора и фактора развит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ия, связанные с возрастной незрелостью, препятствующей достижению высокого уровня мотивации и готовности к совместной деятельности со взрослыми, а также в силу законодательных ограничений возраста принятия решения о лечен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сительно легкая подверженность детей и подростков всевозможным сдвигам под влиянием неблагоприятных внешних факторо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релость механизмов психогенеза и саморегуляции эмоций и поведе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 на семью с  активным и определяющим участием родителей в лечебно-реабилитационном процессе («делегирование полномочий»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2876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имость социального окружения и сохраняющейся социальной поддержк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й удельный вес индивидуальных форм и методов помощи, наличие абилитационной составляющей психосоциальной реабилитац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широкий состав специалистов, участвующих  в оказании комплексной помощ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как прямых психосоциальных воздействий на ребенка, так и опосредованных:  через родителей и создание терапевтической среды во всех сферах социального функционирования ребенк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840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Страте́гия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.-греч. στρατηγία, «искусство полководца») — общий, не детализированный план какой-либо деятельности, охватывающий длительный период времени, способ достижения сложной цел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СТРАТЕГИЯ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[strategy]— способ использования средств и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ресурсов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направленный на достижение общей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цели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170000"/>
          </a:xfrm>
          <a:prstGeom prst="rect">
            <a:avLst/>
          </a:prstGeom>
          <a:ln w="0">
            <a:noFill/>
          </a:ln>
        </p:spPr>
      </p:pic>
      <p:sp>
        <p:nvSpPr>
          <p:cNvPr id="450" name="Oval 3"/>
          <p:cNvSpPr/>
          <p:nvPr/>
        </p:nvSpPr>
        <p:spPr>
          <a:xfrm>
            <a:off x="2916360" y="1484280"/>
            <a:ext cx="3025800" cy="2806560"/>
          </a:xfrm>
          <a:prstGeom prst="ellipse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4143240" y="3429000"/>
            <a:ext cx="3024360" cy="280836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66"/>
                </a:solidFill>
                <a:latin typeface="Century Gothic"/>
                <a:ea typeface="Times New Roman"/>
              </a:rPr>
              <a:t>Псих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66"/>
                </a:solidFill>
                <a:latin typeface="Century Gothic"/>
                <a:ea typeface="Times New Roman"/>
              </a:rPr>
              <a:t>расстро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1500120" y="3429000"/>
            <a:ext cx="3025800" cy="2879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66"/>
                </a:solidFill>
                <a:latin typeface="Century Gothic"/>
                <a:ea typeface="Times New Roman"/>
              </a:rPr>
              <a:t>Псих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66"/>
                </a:solidFill>
                <a:latin typeface="Century Gothic"/>
                <a:ea typeface="Times New Roman"/>
              </a:rPr>
              <a:t>здоров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14800" y="2357280"/>
            <a:ext cx="25714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66"/>
                </a:solidFill>
                <a:latin typeface="Century Gothic"/>
                <a:ea typeface="Times New Roman"/>
              </a:rPr>
              <a:t>Психосоци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66"/>
                </a:solidFill>
                <a:latin typeface="Century Gothic"/>
                <a:ea typeface="Times New Roman"/>
              </a:rPr>
              <a:t>реабили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2643120" y="335772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Психосоци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Психосоциальная реабилитация как стратегия развития детской психиатрии</a:t>
            </a:r>
            <a:endParaRPr b="0" lang="en-US" sz="29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зменение содержательной направленности понят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ответствует современным потребностям помощи и запросу сообществ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босновывает вмешательства с момента возникновения у ребенка психического расстройств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412120" cy="1633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достаточное теоретико-методологическое обосновани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рагментарность (изолированное применение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зовый характер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нацеленность на решение конкретных задач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разработанность модульного подход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достаточный учет потребностей детей и родителе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6398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95280" y="2637000"/>
            <a:ext cx="82296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еспечить разносторонними усилиями условия для гармоничного развития ребен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оздание и поддержание поступательности и непрерывности цикла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«развитие – интеграция  – развитие»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(Е.В. Корень, 2008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Object 2"/>
          <p:cNvGraphicFramePr/>
          <p:nvPr/>
        </p:nvGraphicFramePr>
        <p:xfrm>
          <a:off x="4929120" y="2500200"/>
          <a:ext cx="289584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2500200"/>
                    <a:ext cx="28958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3352680" y="3429000"/>
          <a:ext cx="281952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429000"/>
                    <a:ext cx="281952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1752480" y="4343400"/>
          <a:ext cx="2819520" cy="17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281952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7" name="Picture 8" descr="C:\Documents and Settings\Администратор\Мои документы\Мои рисунки\Новая папка (5)\razvitie_rebenka.jpg"/>
          <p:cNvPicPr/>
          <p:nvPr/>
        </p:nvPicPr>
        <p:blipFill>
          <a:blip r:embed="rId7"/>
          <a:stretch/>
        </p:blipFill>
        <p:spPr>
          <a:xfrm>
            <a:off x="0" y="5143680"/>
            <a:ext cx="1857240" cy="1714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C:\Documents and Settings\Администратор\Мои документы\Мои рисунки\Новая папка (5)\67029.jpg"/>
          <p:cNvPicPr/>
          <p:nvPr/>
        </p:nvPicPr>
        <p:blipFill>
          <a:blip r:embed="rId8"/>
          <a:stretch/>
        </p:blipFill>
        <p:spPr>
          <a:xfrm>
            <a:off x="3143160" y="2928960"/>
            <a:ext cx="1584360" cy="11764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1" descr="C:\Documents and Settings\Администратор\Мои документы\Мои рисунки\Новая папка (5)\thinkeralarodin.gif"/>
          <p:cNvPicPr/>
          <p:nvPr/>
        </p:nvPicPr>
        <p:blipFill>
          <a:blip r:embed="rId9"/>
          <a:stretch/>
        </p:blipFill>
        <p:spPr>
          <a:xfrm>
            <a:off x="6286680" y="2858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639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28760" y="20887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даптация с возвращением в стимулирующую среду и удержание в сообществе для возможно более полной гармонизации искаженной болезнью личности ребенка, обеспечивающей устойчивость к воздействию различных патогенных факторов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следующее нормативное развитие, с учетом возрастающих возрастных требований, на основе восстановления утраченных и последовательного формирования новых функций, навыков и личностных качеств (абилитационная составляющая психосоциальной реабилитации) путем мобилизации усилий и возможностей самого пациента и родителей, оптимизации семейных отношений, нормализации средовых факторов,  нивелирования актуальных психотравмирующих обстоятельств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упирование дезадаптирующих, первичных и вторично возникающих, психопатологических расстройств, включая состояние дистресс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цели психосоциальной терапии и психосоциальной реабилитации у детей и подростков с психическими расстройствами</a:t>
            </a:r>
            <a:endParaRPr b="0" lang="en-US" sz="28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42600" y="1928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пределении главных целей реабилитационных усилий в детской психиатрии необходимо учитывать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е психическое расстройство в той или иной степени искажает психическое развитие детей (от грубых дизонтогенетических нарушений с задержкой развития до состояний психосоциальной дезадаптации с нарушением последовательной смены этапов социализации)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ятствует адекватному усвоению ребенком тех или иных навыков, обеспечивающих развитие  в соответствии с возрастными требованиями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вращение в прежнее доболезненное состояние не может служить оптимальной целью в психореабилитационной работе с ребенком, находящимся в процессе интенсивного роста и развития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714240" y="714240"/>
            <a:ext cx="7715520" cy="142884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4"/>
          <p:cNvSpPr/>
          <p:nvPr/>
        </p:nvSpPr>
        <p:spPr>
          <a:xfrm>
            <a:off x="714240" y="3357720"/>
            <a:ext cx="2786040" cy="271440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6"/>
          <p:cNvSpPr/>
          <p:nvPr/>
        </p:nvSpPr>
        <p:spPr>
          <a:xfrm>
            <a:off x="5643720" y="3357720"/>
            <a:ext cx="2786040" cy="271440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7"/>
          <p:cNvSpPr/>
          <p:nvPr/>
        </p:nvSpPr>
        <p:spPr>
          <a:xfrm>
            <a:off x="857160" y="9288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лияние психического расстройства на психическое развитие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785880" y="3714840"/>
            <a:ext cx="2571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социальная дезадаптация детей с психическими расстройствами как «дефицитарный» результат  негативного влияния психического расстрой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5715000" y="3643200"/>
            <a:ext cx="264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сихосоциальная дезадаптация как процесс нарушения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функциональный дефект развит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1" name="Прямая со стрелкой 11"/>
          <p:cNvCxnSpPr>
            <a:stCxn id="475" idx="2"/>
            <a:endCxn id="476" idx="0"/>
          </p:cNvCxnSpPr>
          <p:nvPr/>
        </p:nvCxnSpPr>
        <p:spPr>
          <a:xfrm flipH="1">
            <a:off x="2106360" y="2143080"/>
            <a:ext cx="2466000" cy="1215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482" name="Прямая со стрелкой 13"/>
          <p:cNvCxnSpPr>
            <a:stCxn id="475" idx="2"/>
            <a:endCxn id="477" idx="0"/>
          </p:cNvCxnSpPr>
          <p:nvPr/>
        </p:nvCxnSpPr>
        <p:spPr>
          <a:xfrm>
            <a:off x="4572000" y="2143080"/>
            <a:ext cx="2466000" cy="1215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сихосоциальная дезадаптация детей с психическими расстройствами как процесс нарушения развития</a:t>
            </a:r>
            <a:endParaRPr b="0" lang="en-US" sz="28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нтинуальный спектр нарушений развит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енденция к фиксации патологических способов  эмоционального и поведенческого реагирова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ормирование дезадаптивных копинг-стратег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епятствие к усвоению нового опы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рушения развития остаются после купирования симптоматик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инципиальная обратимость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«функциональный дефект развития»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73080" y="781200"/>
            <a:ext cx="8924760" cy="11332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152280" y="22093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 более раннее начало вмешательств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 психосоциальной реабилитации может быть начат на любом этапе оказания психиатрической помощ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а цели каждого вмешательства с определением времени достижения этой цел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формы вмешательства для конкретного больного определяется особенностями у него психосоциального дефицит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сихосоциальной дезадаптации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сть психосоциальных воздействий осуществляется с учетом все большего приближения к обычным жизненным требованиям и достижению социальной компетентност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ь поддерживающих психосоциальных воздейств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тратегии развития детской психиатрии</a:t>
            </a:r>
            <a:endParaRPr b="0" lang="en-US" sz="3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ерспективные направления практики и исследований, направленные на повышение качества психиатрической помощи и преодоление последствий психического расстройства у детей и подростков с учетом тенденций развития детской психиатрии, имеющихся ресурсов и требований сообществ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859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95280" y="22046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роведение комплексной диагностики как этапа психосоциальной реабилитаци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рофилактическая (ресурсосберегающая) направленность психосоциальной реабилитаци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спользование как прямых психосоциальных воздействий на ребенка, так и опосредованных:  через родителей и создание терапевтической сред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епрерывный и длительный характер психосоциальных воздействий, обеспечивающий поступательность в достижении социальной компетентност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овные принципы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социальной реабилитации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детей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подростков</a:t>
            </a:r>
            <a:br>
              <a:rPr sz="1800"/>
            </a:br>
            <a:br>
              <a:rPr sz="1800"/>
            </a:br>
            <a:endParaRPr b="0" lang="en-US" sz="29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144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500040" y="1336320"/>
            <a:ext cx="820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рассматривается ка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жны проводиться дл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циентов и семей независимо от характера имеющейся психической патологии и этап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б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ниверсализм (учет общих реакций на наличие любого психического расстройства: чувство «уникальности» состояния, пессимизм, самоизоляция и др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жны быть нацеленными на решение конкретных задач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фференцированными и осуществляться с учетом возрас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ситуации развит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ллектуальных способностей, психического состояния пациен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пинг-стратег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особенностей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жны быть интегрированы в структуру оказываемой комплексной помощи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сть практ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«изолирован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пользования отдельных приемов и метод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яя картина болезни и отношение к лечени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 и структура социальной и психической дезадаптац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ные взаимоотношения в семье и с окружающим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эмоционального и поведенческого реагирования           детей и родителе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изм и недостаточная установка к лечени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ие и идентификация защитных фактор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велирование факторов рис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ная самооцен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условий для решения задач развития ребенка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Прямоугольник 3"/>
          <p:cNvSpPr/>
          <p:nvPr/>
        </p:nvSpPr>
        <p:spPr>
          <a:xfrm>
            <a:off x="642960" y="2286000"/>
            <a:ext cx="1928880" cy="171468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4"/>
          <p:cNvSpPr/>
          <p:nvPr/>
        </p:nvSpPr>
        <p:spPr>
          <a:xfrm>
            <a:off x="6643800" y="2286000"/>
            <a:ext cx="1928880" cy="171468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5"/>
          <p:cNvSpPr/>
          <p:nvPr/>
        </p:nvSpPr>
        <p:spPr>
          <a:xfrm>
            <a:off x="3643200" y="2286000"/>
            <a:ext cx="1928880" cy="171468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642960" y="264312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ктивация роли больного и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3643200" y="250020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нижение влияния негативных 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6643800" y="250020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силение влияния позитивных 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9"/>
          <p:cNvSpPr/>
          <p:nvPr/>
        </p:nvSpPr>
        <p:spPr>
          <a:xfrm>
            <a:off x="2000160" y="4786200"/>
            <a:ext cx="5286600" cy="7146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10"/>
          <p:cNvSpPr/>
          <p:nvPr/>
        </p:nvSpPr>
        <p:spPr>
          <a:xfrm>
            <a:off x="2000160" y="5857920"/>
            <a:ext cx="52866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1"/>
          <p:cNvSpPr/>
          <p:nvPr/>
        </p:nvSpPr>
        <p:spPr>
          <a:xfrm>
            <a:off x="2071800" y="485784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навыков преодоления психического расстр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2"/>
          <p:cNvSpPr/>
          <p:nvPr/>
        </p:nvSpPr>
        <p:spPr>
          <a:xfrm>
            <a:off x="2071800" y="60008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стойчивая ресоциал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6" name="Прямая со стрелкой 14"/>
          <p:cNvCxnSpPr>
            <a:stCxn id="496" idx="2"/>
          </p:cNvCxnSpPr>
          <p:nvPr/>
        </p:nvCxnSpPr>
        <p:spPr>
          <a:xfrm>
            <a:off x="1605600" y="4000680"/>
            <a:ext cx="965880" cy="786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7" name="Прямая со стрелкой 16"/>
          <p:cNvCxnSpPr>
            <a:stCxn id="498" idx="2"/>
            <a:endCxn id="502" idx="0"/>
          </p:cNvCxnSpPr>
          <p:nvPr/>
        </p:nvCxnSpPr>
        <p:spPr>
          <a:xfrm>
            <a:off x="4605840" y="4000680"/>
            <a:ext cx="37080" cy="786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8" name="Прямая со стрелкой 19"/>
          <p:cNvCxnSpPr>
            <a:stCxn id="497" idx="2"/>
          </p:cNvCxnSpPr>
          <p:nvPr/>
        </p:nvCxnSpPr>
        <p:spPr>
          <a:xfrm flipH="1">
            <a:off x="6643080" y="4000680"/>
            <a:ext cx="965880" cy="786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9" name="Прямая со стрелкой 22"/>
          <p:cNvCxnSpPr>
            <a:stCxn id="504" idx="2"/>
            <a:endCxn id="503" idx="0"/>
          </p:cNvCxnSpPr>
          <p:nvPr/>
        </p:nvCxnSpPr>
        <p:spPr>
          <a:xfrm flipH="1">
            <a:off x="4642560" y="5505120"/>
            <a:ext cx="2520" cy="35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09160" cy="14079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ует практическому обеспечению биопсихосоциального подход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трагивает всех детей с психическими расстройствам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еспечивает совместное поле для взаимодействия специалист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ндивидуализирует помощ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более активно привлекает родителей к оказанию помощ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пределяет пути реорганизации служб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317520" y="-139680"/>
            <a:ext cx="8375760" cy="11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3" name="Object 3"/>
          <p:cNvGraphicFramePr/>
          <p:nvPr/>
        </p:nvGraphicFramePr>
        <p:xfrm>
          <a:off x="468360" y="1557360"/>
          <a:ext cx="8223120" cy="45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Oval 4"/>
          <p:cNvSpPr/>
          <p:nvPr/>
        </p:nvSpPr>
        <p:spPr>
          <a:xfrm>
            <a:off x="2786040" y="3714840"/>
            <a:ext cx="934920" cy="985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5003640" y="1628640"/>
            <a:ext cx="3926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целенность на решение конкретных лечебно-реабилитационных задач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нятие психо-эмоционального напряжен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гласие на ле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верженность лече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нятие завышенных экспектаций    родител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стигматизац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нтроль симптомати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ррекция пове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развитие социальных навы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борьба со стигм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психологическая защищенность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1135800" y="1125360"/>
            <a:ext cx="390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липрофессиональные брига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сихо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индивидуальное ведение случ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семейная терап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тренинг социальных навы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психосоциальная поддерж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мотивационное интервь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098000" y="5445000"/>
            <a:ext cx="376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терапевтическая ср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поддержка в сообще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группы самопомощи роди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трудотерапия и 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0" y="357336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посредованный комплек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сихосоциальных воз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10"/>
          <p:cNvSpPr/>
          <p:nvPr/>
        </p:nvSpPr>
        <p:spPr>
          <a:xfrm>
            <a:off x="2916360" y="2924280"/>
            <a:ext cx="718920" cy="57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2916360" y="4869000"/>
            <a:ext cx="7920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12"/>
          <p:cNvSpPr/>
          <p:nvPr/>
        </p:nvSpPr>
        <p:spPr>
          <a:xfrm>
            <a:off x="3924360" y="3860640"/>
            <a:ext cx="576360" cy="70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13"/>
          <p:cNvSpPr/>
          <p:nvPr/>
        </p:nvSpPr>
        <p:spPr>
          <a:xfrm>
            <a:off x="2124000" y="3789360"/>
            <a:ext cx="576360" cy="792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атричный алгоритм ПСР</a:t>
            </a:r>
            <a:br>
              <a:rPr sz="34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(Ko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ень Е.В.,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19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922320" y="3171960"/>
            <a:ext cx="2235240" cy="1676160"/>
          </a:xfrm>
          <a:prstGeom prst="rect">
            <a:avLst/>
          </a:prstGeom>
          <a:solidFill>
            <a:srgbClr val="ffa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5867280" y="3068640"/>
            <a:ext cx="2235240" cy="1676520"/>
          </a:xfrm>
          <a:prstGeom prst="rect">
            <a:avLst/>
          </a:prstGeom>
          <a:solidFill>
            <a:srgbClr val="ffa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и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3429000" y="3857760"/>
            <a:ext cx="2119320" cy="1600200"/>
          </a:xfrm>
          <a:prstGeom prst="rect">
            <a:avLst/>
          </a:prstGeom>
          <a:solidFill>
            <a:srgbClr val="ffa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е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5376960" y="528804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СОЦИАЛЬНАЯ ТЕРАПИЯ И ПСИХОСОЦИАЛЬНАЯ РЕАБИЛИТАЦИЯ</a:t>
            </a:r>
            <a:endParaRPr b="0" lang="en-US" sz="28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8572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вается на многоуровневой диагностике имеющихся расстройст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ет использовать социальную составляющую функционального диагноз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необходимым элементом в  разработке и выполнении лечебно-реабилитационного плана каждого ребенка с психическим расстройство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entury Gothic"/>
              </a:rPr>
              <a:t>Матричный алгоритм</a:t>
            </a:r>
            <a:endParaRPr b="0" lang="en-US" sz="34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00040" y="92880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entury Gothic"/>
              </a:rPr>
              <a:t>Матричный алгоритм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представляет собой способ направленного выбора «модулей» для одновременного мультимодального проведения П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T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оотнесенный с актуальными терапевтическими задачами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оторый позволяет  включать и использовать в бригадной работе комплексную характеристику индивидуальных особенностей, семейной и социальной ситуации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уровня социальной адаптации и психосоциального развития детей и подростков,   включающую   в   себя   оценку реального вклада и конкретных проявлений эмоциональных и поведенческих психических расстройств, индивидуально-психологических характеристи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 учетом структуры психической деятельности, качества сформированности основных социальных навыков (поведенческих, коммуникативных, учебно-познавательных) и этапов социализаци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ричный алгоритм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и потребностей при проведении психосоциальной терапии</a:t>
            </a:r>
            <a:br>
              <a:rPr sz="2800"/>
            </a:br>
            <a:br>
              <a:rPr sz="2300"/>
            </a:br>
            <a:endParaRPr b="0" lang="en-US" sz="28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нужды детей,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потребности  детей и родителей,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Клинико-социальные характеристики пациентов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терапевтические и реабилитационные «мишени»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актуальные факторы риска,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одновременное удовлетворение нескольких потребностей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19040" indent="-382680">
              <a:lnSpc>
                <a:spcPct val="9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Gothic"/>
              </a:rPr>
              <a:t>учет динамики изменения потребностей на различных этапах помощи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9040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59040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590400" y="1073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сихиатрии болезнь не может быть отделена от личности (К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neider, 1926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efner,1983, A.Kraus, 2001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Rectangle 5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785196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6"/>
          <p:cNvSpPr/>
          <p:nvPr/>
        </p:nvSpPr>
        <p:spPr>
          <a:xfrm>
            <a:off x="3505320" y="1752480"/>
            <a:ext cx="1485720" cy="46864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е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Х-Х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rc 7"/>
          <p:cNvSpPr/>
          <p:nvPr/>
        </p:nvSpPr>
        <p:spPr>
          <a:xfrm flipV="1" rot="10754400">
            <a:off x="801360" y="4379760"/>
            <a:ext cx="7429320" cy="992160"/>
          </a:xfrm>
          <a:custGeom>
            <a:avLst/>
            <a:gdLst>
              <a:gd name="textAreaLeft" fmla="*/ 0 w 7429320"/>
              <a:gd name="textAreaRight" fmla="*/ 7429680 w 7429320"/>
              <a:gd name="textAreaTop" fmla="*/ 360 h 992160"/>
              <a:gd name="textAreaBottom" fmla="*/ 992880 h 992160"/>
            </a:gdLst>
            <a:ahLst/>
            <a:rect l="textAreaLeft" t="textAreaTop" r="textAreaRight" b="textAreaBottom"/>
            <a:pathLst>
              <a:path fill="none" w="21600" h="20843">
                <a:moveTo>
                  <a:pt x="5668" y="0"/>
                </a:moveTo>
                <a:cubicBezTo>
                  <a:pt x="15073" y="2558"/>
                  <a:pt x="21600" y="11096"/>
                  <a:pt x="21600" y="20843"/>
                </a:cubicBezTo>
              </a:path>
              <a:path stroke="0" w="21600" h="20843">
                <a:moveTo>
                  <a:pt x="5668" y="0"/>
                </a:moveTo>
                <a:cubicBezTo>
                  <a:pt x="15073" y="2558"/>
                  <a:pt x="21600" y="11096"/>
                  <a:pt x="21600" y="20843"/>
                </a:cubicBezTo>
                <a:lnTo>
                  <a:pt x="0" y="20843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rc 8"/>
          <p:cNvSpPr/>
          <p:nvPr/>
        </p:nvSpPr>
        <p:spPr>
          <a:xfrm rot="10800000">
            <a:off x="799920" y="2018520"/>
            <a:ext cx="7429320" cy="1212840"/>
          </a:xfrm>
          <a:custGeom>
            <a:avLst/>
            <a:gdLst>
              <a:gd name="textAreaLeft" fmla="*/ 0 w 7429320"/>
              <a:gd name="textAreaRight" fmla="*/ 7429680 w 74293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fill="none" w="21600" h="20828">
                <a:moveTo>
                  <a:pt x="5723" y="0"/>
                </a:moveTo>
                <a:cubicBezTo>
                  <a:pt x="15101" y="2577"/>
                  <a:pt x="21600" y="11103"/>
                  <a:pt x="21600" y="20828"/>
                </a:cubicBezTo>
              </a:path>
              <a:path stroke="0" w="21600" h="20828">
                <a:moveTo>
                  <a:pt x="5723" y="0"/>
                </a:moveTo>
                <a:cubicBezTo>
                  <a:pt x="15101" y="2577"/>
                  <a:pt x="21600" y="11103"/>
                  <a:pt x="21600" y="20828"/>
                </a:cubicBezTo>
                <a:lnTo>
                  <a:pt x="0" y="2082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0" y="43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468080" y="19494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иа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6400" y="19494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иа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130760" y="529416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иолог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иа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6251760" y="525780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иолог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иа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6090840" y="35053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иа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 rot="16122000">
            <a:off x="560520" y="3313080"/>
            <a:ext cx="18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ин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иат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7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6858000" y="43434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19"/>
          <p:cNvSpPr/>
          <p:nvPr/>
        </p:nvSpPr>
        <p:spPr>
          <a:xfrm>
            <a:off x="7315200" y="43434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0"/>
          <p:cNvSpPr/>
          <p:nvPr/>
        </p:nvSpPr>
        <p:spPr>
          <a:xfrm>
            <a:off x="7772400" y="43434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1"/>
          <p:cNvSpPr/>
          <p:nvPr/>
        </p:nvSpPr>
        <p:spPr>
          <a:xfrm>
            <a:off x="8229600" y="43434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6477120" y="320040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7162920" y="32004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8001000" y="320040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25"/>
          <p:cNvSpPr/>
          <p:nvPr/>
        </p:nvSpPr>
        <p:spPr>
          <a:xfrm>
            <a:off x="6324480" y="3048120"/>
            <a:ext cx="152640" cy="304560"/>
          </a:xfrm>
          <a:prstGeom prst="upDownArrow">
            <a:avLst>
              <a:gd name="adj1" fmla="val 50000"/>
              <a:gd name="adj2" fmla="val 39721"/>
            </a:avLst>
          </a:prstGeom>
          <a:solidFill>
            <a:srgbClr val="d996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6"/>
          <p:cNvSpPr/>
          <p:nvPr/>
        </p:nvSpPr>
        <p:spPr>
          <a:xfrm>
            <a:off x="685800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d996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>
            <a:off x="7620120" y="2819520"/>
            <a:ext cx="380880" cy="838080"/>
          </a:xfrm>
          <a:prstGeom prst="upDownArrow">
            <a:avLst>
              <a:gd name="adj1" fmla="val 50000"/>
              <a:gd name="adj2" fmla="val 43803"/>
            </a:avLst>
          </a:prstGeom>
          <a:solidFill>
            <a:srgbClr val="d996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Прямоугольник 1"/>
          <p:cNvSpPr/>
          <p:nvPr/>
        </p:nvSpPr>
        <p:spPr>
          <a:xfrm>
            <a:off x="285840" y="114300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ый диагно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ули ПСТ направлены на основные сферы функционирования ребен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я, школа, «улица и т.д.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тивный характер ПС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ение ресурс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ерывный  и этапно-длительный характер ПС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ность на обеспечение условий для развития ребенка с психическим расстрой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ный характер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2"/>
          <p:cNvSpPr/>
          <p:nvPr/>
        </p:nvSpPr>
        <p:spPr>
          <a:xfrm>
            <a:off x="714240" y="1429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ые пункты ПСР у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463680" y="-262080"/>
            <a:ext cx="8412120" cy="72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20840" y="-85680"/>
            <a:ext cx="8437320" cy="14936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00040" y="15717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34416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ический аспект (модель биоэтики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иближение к сообществ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ассмотрение проблем ребенка в контексте психического здоровья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филактическая направленно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«Психиатрия ценностей»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(В.Н. Краснов, 2008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личный выбор пациента,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предоставление широкого спектра видов помощи,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вовлечение пациентов и родителей в оказание помощи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3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583840" cy="1504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257184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пора на семь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звитие бригадных форм помощ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офилактическая (ресурсосберегающая) направленность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ереход к биопсихосоциальной модел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ногоосевая диагности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ипрофессиональные формы психиатрической помощ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сихопатология развит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Детская психиатрия на современном этапе</a:t>
            </a:r>
            <a:endParaRPr b="0" lang="en-US" sz="3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«потолок» психофармакотерап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«нозологический» кризис классификац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носительно низкая эффективность профилактических и реабилитационных програм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граниченное использование психосоциальных вмешательст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храняющиеся патерналистские установк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достаточное взаимодействие специалист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изкий комплайен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тигматизация психиатр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зменение структуры обращаемост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461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714240" y="3500280"/>
            <a:ext cx="2000520" cy="11430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6143760" y="3500280"/>
            <a:ext cx="2000160" cy="11430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3143160" y="1928880"/>
            <a:ext cx="257184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6"/>
          <p:cNvSpPr/>
          <p:nvPr/>
        </p:nvSpPr>
        <p:spPr>
          <a:xfrm>
            <a:off x="3143160" y="3000240"/>
            <a:ext cx="2571840" cy="7146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7"/>
          <p:cNvSpPr/>
          <p:nvPr/>
        </p:nvSpPr>
        <p:spPr>
          <a:xfrm>
            <a:off x="3132000" y="4076640"/>
            <a:ext cx="2571840" cy="7146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3143160" y="5143680"/>
            <a:ext cx="257184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циальная дезадапт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9"/>
          <p:cNvSpPr/>
          <p:nvPr/>
        </p:nvSpPr>
        <p:spPr>
          <a:xfrm>
            <a:off x="857160" y="6215040"/>
            <a:ext cx="7215120" cy="42876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785880" y="35719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ег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сихосоциальны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3214800" y="185724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Этап формирования расстрой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3214800" y="300024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ращение за помощ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3214800" y="400068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5"/>
          <p:cNvSpPr/>
          <p:nvPr/>
        </p:nvSpPr>
        <p:spPr>
          <a:xfrm>
            <a:off x="6215040" y="364320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зи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сихосоциальны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16"/>
          <p:cNvSpPr/>
          <p:nvPr/>
        </p:nvSpPr>
        <p:spPr>
          <a:xfrm>
            <a:off x="928800" y="621504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амостоятельное функционирование в сооб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Прямая со стрелкой 18"/>
          <p:cNvCxnSpPr>
            <a:stCxn id="392" idx="2"/>
            <a:endCxn id="393" idx="0"/>
          </p:cNvCxnSpPr>
          <p:nvPr/>
        </p:nvCxnSpPr>
        <p:spPr>
          <a:xfrm flipH="1">
            <a:off x="4427280" y="2643120"/>
            <a:ext cx="2160" cy="35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4" name="Прямая со стрелкой 22"/>
          <p:cNvCxnSpPr/>
          <p:nvPr/>
        </p:nvCxnSpPr>
        <p:spPr>
          <a:xfrm flipH="1">
            <a:off x="4428360" y="3714840"/>
            <a:ext cx="2520" cy="35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5" name="Прямая со стрелкой 24"/>
          <p:cNvCxnSpPr/>
          <p:nvPr/>
        </p:nvCxnSpPr>
        <p:spPr>
          <a:xfrm flipH="1">
            <a:off x="4428360" y="4785840"/>
            <a:ext cx="2520" cy="35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6" name="Прямая со стрелкой 25"/>
          <p:cNvCxnSpPr/>
          <p:nvPr/>
        </p:nvCxnSpPr>
        <p:spPr>
          <a:xfrm flipH="1">
            <a:off x="4428360" y="5857920"/>
            <a:ext cx="2520" cy="35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7" name="Прямая со стрелкой 29"/>
          <p:cNvCxnSpPr>
            <a:endCxn id="392" idx="1"/>
          </p:cNvCxnSpPr>
          <p:nvPr/>
        </p:nvCxnSpPr>
        <p:spPr>
          <a:xfrm flipV="1">
            <a:off x="2213640" y="2285280"/>
            <a:ext cx="929160" cy="1215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Прямая со стрелкой 31"/>
          <p:cNvCxnSpPr>
            <a:endCxn id="393" idx="1"/>
          </p:cNvCxnSpPr>
          <p:nvPr/>
        </p:nvCxnSpPr>
        <p:spPr>
          <a:xfrm flipV="1">
            <a:off x="2714760" y="3357360"/>
            <a:ext cx="429120" cy="429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Прямая со стрелкой 33"/>
          <p:cNvCxnSpPr>
            <a:endCxn id="394" idx="1"/>
          </p:cNvCxnSpPr>
          <p:nvPr/>
        </p:nvCxnSpPr>
        <p:spPr>
          <a:xfrm>
            <a:off x="2690280" y="4290480"/>
            <a:ext cx="429480" cy="14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0" name="Прямая со стрелкой 35"/>
          <p:cNvCxnSpPr>
            <a:endCxn id="395" idx="1"/>
          </p:cNvCxnSpPr>
          <p:nvPr/>
        </p:nvCxnSpPr>
        <p:spPr>
          <a:xfrm>
            <a:off x="2284920" y="4643280"/>
            <a:ext cx="857880" cy="858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1" name="Прямая со стрелкой 37"/>
          <p:cNvCxnSpPr>
            <a:endCxn id="392" idx="3"/>
          </p:cNvCxnSpPr>
          <p:nvPr/>
        </p:nvCxnSpPr>
        <p:spPr>
          <a:xfrm flipH="1" flipV="1">
            <a:off x="5714640" y="2285280"/>
            <a:ext cx="929520" cy="1215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2" name="Прямая со стрелкой 39"/>
          <p:cNvCxnSpPr>
            <a:endCxn id="393" idx="3"/>
          </p:cNvCxnSpPr>
          <p:nvPr/>
        </p:nvCxnSpPr>
        <p:spPr>
          <a:xfrm flipH="1" flipV="1">
            <a:off x="5714280" y="3357360"/>
            <a:ext cx="429480" cy="429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3" name="Прямая со стрелкой 41"/>
          <p:cNvCxnSpPr>
            <a:endCxn id="394" idx="3"/>
          </p:cNvCxnSpPr>
          <p:nvPr/>
        </p:nvCxnSpPr>
        <p:spPr>
          <a:xfrm flipH="1">
            <a:off x="5715720" y="4362480"/>
            <a:ext cx="429480" cy="72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4" name="Прямая со стрелкой 43"/>
          <p:cNvCxnSpPr/>
          <p:nvPr/>
        </p:nvCxnSpPr>
        <p:spPr>
          <a:xfrm flipH="1">
            <a:off x="5714280" y="4503240"/>
            <a:ext cx="786600" cy="82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5" name="TextBox 13"/>
          <p:cNvSpPr/>
          <p:nvPr/>
        </p:nvSpPr>
        <p:spPr>
          <a:xfrm>
            <a:off x="3214800" y="407196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иагностика и л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6" name="Прямая со стрелкой 32"/>
          <p:cNvCxnSpPr>
            <a:stCxn id="390" idx="2"/>
          </p:cNvCxnSpPr>
          <p:nvPr/>
        </p:nvCxnSpPr>
        <p:spPr>
          <a:xfrm>
            <a:off x="1713600" y="4643280"/>
            <a:ext cx="286200" cy="1572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7" name="Прямая со стрелкой 36"/>
          <p:cNvCxnSpPr>
            <a:stCxn id="391" idx="2"/>
          </p:cNvCxnSpPr>
          <p:nvPr/>
        </p:nvCxnSpPr>
        <p:spPr>
          <a:xfrm flipH="1">
            <a:off x="6643080" y="4643280"/>
            <a:ext cx="500760" cy="1572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Диаграмма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39:53Z</dcterms:created>
  <dc:creator>Администратор</dc:creator>
  <dc:description/>
  <dc:language>en-US</dc:language>
  <cp:lastModifiedBy>Администратор</cp:lastModifiedBy>
  <dcterms:modified xsi:type="dcterms:W3CDTF">2010-11-09T15:22:53Z</dcterms:modified>
  <cp:revision>133</cp:revision>
  <dc:subject/>
  <dc:title>Слайд 1</dc:title>
</cp:coreProperties>
</file>