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BF4-AF3F-4FB6-AD4B-073A84C5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8AB-FD80-4DFC-925F-AEA35AD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B36-A8AB-488F-8AFE-291DC565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5E8-B02C-4ACB-B7FB-999D1080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F1F-0BF7-4E9E-A05A-0FD35803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FB8-A033-4CAA-A558-232ED72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5452-AE18-43F7-AF0C-B99664BD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A2D-C3BC-46B2-BAA0-3580169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C1B0-AE8C-433E-ADDB-86DE141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DE51-3418-4874-AD13-CF612C5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A48A-F29C-4185-9D11-91CB067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799-CDFE-4FCC-B2E5-D4E3945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7802-AEC7-41EC-BDB5-09CE5091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85E-68B3-4D49-9933-911653C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0AB-2503-4525-B88B-DACE731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B7FC-8930-4A9B-B2C9-99247540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2E05-EEA4-463E-BF4C-2DB2BA7E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0BF-613B-447E-A044-EB4340D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BBC-FF8B-412C-80AC-55733D63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31C-0634-4C31-865C-5DA53CD6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C6E-86C1-4791-B41E-4E4E092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007-C08F-4D9D-BD6A-1F75E65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F31-30D1-496A-8C6E-D805936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119-20BE-4FB8-89ED-41A602C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7A50-77D5-4623-AAE9-3B038BF1E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BC2-8E03-4A5D-8AD4-CD9F43916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sophiasamara@gmail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70549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амарский государственный медицинский университет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Кафедра психиатрии, наркологии, психотерапии 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 клинической психологии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амарская психиатрическая больниц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85880" y="2491920"/>
            <a:ext cx="788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сихосоциальная работа с родственник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оставная час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сихосоциальной реабилитац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тей с расстройствам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тистического спект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йретдинов О.З., Романов Д.В., Баранов В.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-31644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ри группы психотравмирующих фактор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483920"/>
            <a:ext cx="73134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структуре отношений к болезни ребенка, способствующих формированию психогенных психических расстройств у родителей аутичных де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гнитив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моциональные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веденческие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травмирующие факторы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гнитивного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уров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труднения в понимании особенностей поведения (например, «псевдоглухоты», ритуалов, феномена «тождества», стереотипий, негативизма и пр.) и «угадывании незаявляемых нужд ребенка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онцепция болезни ребенка» которая часто носит обвинительный характер по отношению к супругу, врачам и способствует формированию деструктивных форм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фицит доступной корректной информации в сферах диагностики, терапии, «интеграции в общество», возможностей и форм обучения аутичного ребе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уррогатная» информаци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моциогенные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травмирующие факто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достаточность ответных эмоциональных реакций со стороны ребенка и тенденция трактовать это как неспособность адекватно выполнять родительские функ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увство вины в связи с рождением нездорового ребенка, реализуемое в стремлении «быть хорошим родителем несмотря ни на что», игнорировании своих личных потребност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деи самообвинения по поводу «недостаточно тщательного следования рекомендациям специалистов» и опасения «упущенных возможностей и времени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наличии других детей в семье, родители нередко испытывают страх, что и у них тоже могут проявиться признаки болез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травмирующие факторы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веденческого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уровн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щитно-агрессивные или избегающе-ограничительные формы поведения родителей вследствие сенсибилизации к реакциям окружающих становятся по принципу "порочного круга" источником постоянного фона дополнительных травмирующих пережива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екция (перенос) вины на окружающих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нижение профессионального статуса наиболее близкого к ребенку члена семьи («главного опекуна»), которым чаще являются матери, и повышенная профессиональная активность с отдалением от повседневных семейных проблем и (или) алкоголизация от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анифестация острых психотических расстройст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6406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ффективно-шоковые реакции с явлениями растерянности, дереализации, отчаяния, гне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кции на острый стрес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прессивные и тревожные реак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матоформные вегетативные дисфунк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же - диссоциативные расстрой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первые дни пребывания ребенка в стационаре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11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вления растерянности с элементами дереализации и деперсонализации, часто сопровождающиеся сомнениями в целесообразности госпитализации, недооценкой или даже отрицанием очевидных признаков психотических расстройств у ребен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 меньшей части родителей, преимущественно у отцов, отмечалось тревожное суетливое возбуждение со стремлением к активности, чаще дезорганизующей процесс оказания помощ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случае быстрой редукции симптоматик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ффективная лабильность на фоне заметной астенизации вплоть до выраженной полярности аффект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от эйфории с возвратом недооценки и недостатка критики к состоянию ребенка до страха и крайне пессимистических ожида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 отсутствии заметной положительной дина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4064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прессивные переживания с тревожным, тоскливым, анестетическим или дисфорическим компонента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деи самообвинения или обвинения медицинских работников, педагогов, родственников за якобы допущенные халатность, ошибки, оказавшие патогенное влияние на ребен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доверие и критическое отношение к лечащему врачу и медицинскому персоналу, настоятельные требования пересмотреть тактику либо отменить лечение или выписать домо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кануне выписки из стационар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3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случае купировании или существенной редукции психотических расстройств: усиление тревоги, неуверенности в правильности и адекватности собственных воспитательских действий («я не справлюсь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збыточная эйфория, облегченное отношение позволяли прогнозировать манкирование рекомендациями по дальнейшему наблюдению и поддерживающему лечени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 недостаточном эффекте от проведенного лечения: разочарование, утрированный пессимизм, оппозиционно-недоверчивое отношение к возможностям медицинского учрежд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тигматизация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аутостигматиза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2060640"/>
            <a:ext cx="7313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ем более склонны были родители ребенка до появления у него психических расстройств проявлять нетерпимость к психически больным, тем острее ощущают ее влияние на себе, тем патогеннее для них психическая травма, интенсивнее дезадаптивные реак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отличие от соматических заболеваний, когда, как правило, мобилизуются доступные социальные ресурсы, люди с психическими расстройствами и их родственники остаются в стороне от источников возможной поддерж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сихосоциальная реабилита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сстановление нарушенных (формирование – в случае изначальной недостаточности) когнитивных, мотивационных, эмоциональных ресурсов личности (включая навыки, знания, умения взаимодействовать, решать проблемы и т.д.)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И.Я.Гурович, Я.А.Сторожакова, 200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алинтовские груп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яду с индивидуальным консультированием родителей и отдельных семей представляются эффективными групповые формы работы с родственниками, при которых им принадлежит большая активность и инициати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мен информацией и опытом между семьями, имеющими сходные проблемы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меньшение напряжения, сплоче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суждение многих прежде «закрытых» вопросов, «мозговой штурм» и моделирование вариантов разрешения конкретных сложных ситуаци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труктурированные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ценочные шкал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ценочная шкала детского аутиз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R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pler, Mesibov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ценочная клинико-этологическая шкала аутистических расстройств (ОКЭША, Хайретдинов О.З., Уваровская О.Ю., 200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арадокс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тношения специали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 врача могут складываться образы «хороших» пациентов и их родственников, оптимальным образом следующих лечебным предписания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ем активнее стремление встретить подобное «совершенство», тем реже это случается, и тем больше разочарование врач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актор риска формирования профессиональных деформаций личности специалиста, синдрома «эмоционального выгорания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3013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сихосоциальная реабилитация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ff"/>
                </a:solidFill>
                <a:latin typeface="Verdana"/>
              </a:rPr>
              <a:t>Восстановление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рушенных (</a:t>
            </a:r>
            <a:r>
              <a:rPr b="1" lang="ru-RU" sz="2900" spc="-1" strike="noStrike">
                <a:solidFill>
                  <a:srgbClr val="0066ff"/>
                </a:solidFill>
                <a:latin typeface="Verdana"/>
              </a:rPr>
              <a:t>формирован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в случае изначальной недостаточности) когнитивных, </a:t>
            </a:r>
            <a:r>
              <a:rPr b="1" lang="ru-RU" sz="2900" spc="-1" strike="noStrike">
                <a:solidFill>
                  <a:srgbClr val="0066ff"/>
                </a:solidFill>
                <a:latin typeface="Verdana"/>
              </a:rPr>
              <a:t>мотивационных, эмоциональных ресурсов личности (включая навыки, знания, умения взаимодействовать, решать проблемы и т.д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02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тимизация детской психиатрической помощи требует осуществления психосоциальной терапии семейного окружения, в том числе выявления, учета и коррекции вторичных психогенных психических расстройств и явлений аутостигматизации у родителей, и предполагает активное формирование партнерских отношений со специалистам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920" y="2397240"/>
            <a:ext cx="764064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нимание механизмов неконструктивных действий родителей позволяет избежать прямолинейной «активной атаки» на имеющее защитное значение поведение, а также быть средством профилактики профессиональных деформаций личности специалист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айретдинов Олег Замильеви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вный внештатный специалист Министерства здравоохранения и социального развития Самарской области по детской психиатр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ophiasamara@g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7 902 371 54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ечение большинства психических расстройств детского и подросткового возраста может осуществляться только в тесном контакте с родителями пациента, от которых зависит следование плану лечения и первичный контроль за его динамикой (Лебединская К.С., 199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азчик лечебно-диагностических услуг в детской психиатр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одител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бено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тская поликлини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овательные учрежд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циальные служб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фицит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ого взаимодейств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ленов семь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циент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ециалист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ечебно-коррекционных учрежд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3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715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зкая специализация и недостаток комплексных полипрофессиональных структур оказания лечебно-реабилитационной помощи нередко приводят к противоречивым рекомендациям, вынуждая родителей выполнять активную функцию организаторов комплексной помощи ребенк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ециалисты, ориентированные на профессиональное доминирование, нередко с досадой воспринимают «неоптимальное» отношение к лечению родителей пациента, замыкая тем самым порочный круг неудовлетворенности взаимодействием и снижая уровень комплайент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3515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обходимость построения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онтакта с родителям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915920"/>
            <a:ext cx="71359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сприятие в качестве второстепенной задач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еха, неприятная часть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очарование, раздражение, обида, зло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спектива работы не с одним пациентом, а с нескольки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сихосоциальная работа с родственникам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снове неконструктивного поведения родителей на разных этапах оказания помощи могут лежать вторичные расстройства невротического и патохарактерологического регистров, обусловленные психической травматизацией в связи с болезнью ребен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46:13Z</dcterms:created>
  <dc:creator>1</dc:creator>
  <dc:description/>
  <dc:language>en-US</dc:language>
  <cp:lastModifiedBy>USER</cp:lastModifiedBy>
  <dcterms:modified xsi:type="dcterms:W3CDTF">2010-11-10T06:01:53Z</dcterms:modified>
  <cp:revision>13</cp:revision>
  <dc:subject/>
  <dc:title>Самарский государственный медицинский университет Самарская психиатрическая больница   Некоторые аспекты психосоциальной терапии при психических расстройствах у детей и подростков</dc:title>
</cp:coreProperties>
</file>