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BFFB-E973-41E0-B634-5BBCF4B2C5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E1DA-9EC1-4A59-A310-53B39784D3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AEE8-9300-4031-A8C0-1933738688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B268-B43C-4842-9F35-958F405690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B738-CF98-4977-B879-2481384E70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20E2-2377-415F-A00C-5746B928FB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438A-378F-4C56-9F8D-8837C0F5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FC52-8092-4392-A476-E7B29BE9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3B5C-F5D7-4C7F-BC46-14E11252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8375-8E07-4337-B70C-41170FE6F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5518-22D4-43AF-991C-8CFB8924B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8099-D7F5-4BE9-9DC2-A8A8DC69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ED19-EDC9-434A-9117-0D08BC78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5D01-08FD-48B7-9DBB-9F7F5A8A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9FF7-80CB-4862-A599-6BFAE1E6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DC53-59EC-4187-BD70-3F130F39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CA12-1F09-49B8-B54D-3925EF98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14C5-550E-4CBA-90F4-0B734092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2E15-B1EA-4EDF-94AE-744960BA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B5C7-656A-423E-952E-500CE54E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3ECD-88B3-4E93-9802-AE896CAE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BFE4-6D9E-430E-A8C3-B4D0C309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E404-2C93-4CC6-881D-D60E992AB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1AFD-110B-48E4-A9F8-3DCB2510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E797-106E-44CD-BF26-FE49FDF2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0AAA-0016-48CF-809F-7ABF1272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FB91-C43C-4200-AF13-14A43C59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C3FC-6CAD-4914-9756-AB005E27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59CA-6D52-495B-A4AB-B4DBD55E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DBA0-852F-4FBD-B511-E66CD58E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Group 3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>
                  <a:gd name="textAreaLeft" fmla="*/ 0 w 8364600"/>
                  <a:gd name="textAreaRight" fmla="*/ 8364960 w 8364600"/>
                  <a:gd name="textAreaTop" fmla="*/ 0 h 4726080"/>
                  <a:gd name="textAreaBottom" fmla="*/ 4726440 h 4726080"/>
                </a:gdLst>
                <a:ahLst/>
                <a:rect l="textAreaLeft" t="textAreaTop" r="textAreaRight" b="textAreaBottom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>
                  <a:gd name="textAreaLeft" fmla="*/ 0 w 8364600"/>
                  <a:gd name="textAreaRight" fmla="*/ 8364960 w 8364600"/>
                  <a:gd name="textAreaTop" fmla="*/ 0 h 4726080"/>
                  <a:gd name="textAreaBottom" fmla="*/ 4726440 h 4726080"/>
                </a:gdLst>
                <a:ahLst/>
                <a:rect l="textAreaLeft" t="textAreaTop" r="textAreaRight" b="textAreaBottom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Group 7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Rectangle 8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4421160"/>
                  <a:gd name="textAreaBottom" fmla="*/ 4421520 h 4421160"/>
                </a:gdLst>
                <a:ahLst/>
                <a:rect l="textAreaLeft" t="textAreaTop" r="textAreaRight" b="textAreaBottom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4421160"/>
                  <a:gd name="textAreaBottom" fmla="*/ 4421520 h 4421160"/>
                </a:gdLst>
                <a:ahLst/>
                <a:rect l="textAreaLeft" t="textAreaTop" r="textAreaRight" b="textAreaBottom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Rectangle 12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>
                  <a:gd name="textAreaLeft" fmla="*/ 0 w 306360"/>
                  <a:gd name="textAreaRight" fmla="*/ 306360 w 306360"/>
                  <a:gd name="textAreaTop" fmla="*/ 0 h 1144440"/>
                  <a:gd name="textAreaBottom" fmla="*/ 1144800 h 1144440"/>
                </a:gdLst>
                <a:ahLst/>
                <a:rect l="textAreaLeft" t="textAreaTop" r="textAreaRight" b="textAreaBottom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>
                  <a:gd name="textAreaLeft" fmla="*/ 0 w 306360"/>
                  <a:gd name="textAreaRight" fmla="*/ 306360 w 306360"/>
                  <a:gd name="textAreaTop" fmla="*/ 0 h 1144440"/>
                  <a:gd name="textAreaBottom" fmla="*/ 1144800 h 1144440"/>
                </a:gdLst>
                <a:ahLst/>
                <a:rect l="textAreaLeft" t="textAreaTop" r="textAreaRight" b="textAreaBottom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37D2-3951-40B4-A6FE-D9D2518836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Group 3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Rectangle 4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>
                  <a:gd name="textAreaLeft" fmla="*/ 0 w 8370720"/>
                  <a:gd name="textAreaRight" fmla="*/ 8371080 w 8370720"/>
                  <a:gd name="textAreaTop" fmla="*/ 0 h 2211120"/>
                  <a:gd name="textAreaBottom" fmla="*/ 2211120 h 2211120"/>
                </a:gdLst>
                <a:ahLst/>
                <a:rect l="textAreaLeft" t="textAreaTop" r="textAreaRight" b="textAreaBottom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>
                  <a:gd name="textAreaLeft" fmla="*/ 0 w 8371080"/>
                  <a:gd name="textAreaRight" fmla="*/ 8371440 w 8371080"/>
                  <a:gd name="textAreaTop" fmla="*/ 0 h 2211120"/>
                  <a:gd name="textAreaBottom" fmla="*/ 2211120 h 2211120"/>
                </a:gdLst>
                <a:ahLst/>
                <a:rect l="textAreaLeft" t="textAreaTop" r="textAreaRight" b="textAreaBottom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Group 7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Rectangle 8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9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>
                  <a:gd name="textAreaLeft" fmla="*/ 0 w 8383680"/>
                  <a:gd name="textAreaRight" fmla="*/ 8384040 w 838368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10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>
                  <a:gd name="textAreaLeft" fmla="*/ 0 w 8383680"/>
                  <a:gd name="textAreaRight" fmla="*/ 8384040 w 838368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1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Rectangle 12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752480"/>
                  <a:gd name="textAreaBottom" fmla="*/ 1752840 h 1752480"/>
                </a:gdLst>
                <a:ahLst/>
                <a:rect l="textAreaLeft" t="textAreaTop" r="textAreaRight" b="textAreaBottom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752480"/>
                  <a:gd name="textAreaBottom" fmla="*/ 1752840 h 1752480"/>
                </a:gdLst>
                <a:ahLst/>
                <a:rect l="textAreaLeft" t="textAreaTop" r="textAreaRight" b="textAreaBottom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E89F-C532-45C5-A15F-1F04211E03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280" y="2421000"/>
            <a:ext cx="835020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линические особенности, динамика развития, распространенность и принципы диагностики шизотипического расстройства в детском возраст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ЦПЗ РАМН             Моск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дущий научный сотрудник, к.м.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рюнов А.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838080" y="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апы развития вялотекущей шизофрени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 детском возрас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758880" y="1376280"/>
          <a:ext cx="7883640" cy="624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8880" y="1376280"/>
                    <a:ext cx="7883640" cy="624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AutoShape 4"/>
          <p:cNvSpPr/>
          <p:nvPr/>
        </p:nvSpPr>
        <p:spPr>
          <a:xfrm>
            <a:off x="2057400" y="243828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5486400" y="243828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3733920" y="312408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 особенностям психического развития у детей с шизотипическим расстройством 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по данным Зверевой Н.В.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84360" y="1864440"/>
            <a:ext cx="874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синхронность и неравномерность интеллектуального развития в виде задержки предметного восприят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ипертрофированное развитие понятий и недостаточное их влияние на перцептивную деятельнос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иссоциация развития аффективной, эмоциональной, волевой и интеллектуальной сфе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ы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отипического расстройства в детском возраст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 2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9"/>
          <p:cNvSpPr/>
          <p:nvPr/>
        </p:nvSpPr>
        <p:spPr>
          <a:xfrm>
            <a:off x="1600200" y="2438280"/>
            <a:ext cx="762120" cy="838440"/>
          </a:xfrm>
          <a:prstGeom prst="downArrow">
            <a:avLst>
              <a:gd name="adj1" fmla="val 50000"/>
              <a:gd name="adj2" fmla="val 27504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22"/>
          <p:cNvSpPr/>
          <p:nvPr/>
        </p:nvSpPr>
        <p:spPr>
          <a:xfrm>
            <a:off x="533520" y="15238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еврозоподобна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форм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 21.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3"/>
          <p:cNvSpPr/>
          <p:nvPr/>
        </p:nvSpPr>
        <p:spPr>
          <a:xfrm>
            <a:off x="3352680" y="1523880"/>
            <a:ext cx="26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сихопатоподобн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фор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 21.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4"/>
          <p:cNvSpPr/>
          <p:nvPr/>
        </p:nvSpPr>
        <p:spPr>
          <a:xfrm>
            <a:off x="6248520" y="15652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Циклотимоподобн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фор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 21.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27"/>
          <p:cNvSpPr/>
          <p:nvPr/>
        </p:nvSpPr>
        <p:spPr>
          <a:xfrm>
            <a:off x="7162920" y="2438280"/>
            <a:ext cx="761760" cy="838440"/>
          </a:xfrm>
          <a:prstGeom prst="downArrow">
            <a:avLst>
              <a:gd name="adj1" fmla="val 50000"/>
              <a:gd name="adj2" fmla="val 2751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28"/>
          <p:cNvSpPr/>
          <p:nvPr/>
        </p:nvSpPr>
        <p:spPr>
          <a:xfrm>
            <a:off x="4419720" y="2438280"/>
            <a:ext cx="761760" cy="838440"/>
          </a:xfrm>
          <a:prstGeom prst="downArrow">
            <a:avLst>
              <a:gd name="adj1" fmla="val 50000"/>
              <a:gd name="adj2" fmla="val 2751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9"/>
          <p:cNvSpPr/>
          <p:nvPr/>
        </p:nvSpPr>
        <p:spPr>
          <a:xfrm>
            <a:off x="1053000" y="3238560"/>
            <a:ext cx="20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врозоподоб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ндром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1"/>
          <p:cNvSpPr/>
          <p:nvPr/>
        </p:nvSpPr>
        <p:spPr>
          <a:xfrm>
            <a:off x="304920" y="4000680"/>
            <a:ext cx="3809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 93 Эмоциональные расстройства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пецифичные для детского возрас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 95 Т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 98 Другие эмоциональные расстройства и расстройства повед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рушения пищевого повед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3"/>
          <p:cNvSpPr/>
          <p:nvPr/>
        </p:nvSpPr>
        <p:spPr>
          <a:xfrm>
            <a:off x="3505320" y="3886200"/>
            <a:ext cx="32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 90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иперкинет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строй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F 91 Расстрой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вед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3809880" y="3200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сихопатоподобн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ндром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5"/>
          <p:cNvSpPr/>
          <p:nvPr/>
        </p:nvSpPr>
        <p:spPr>
          <a:xfrm>
            <a:off x="7010280" y="320040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типичн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ффектив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ндром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6"/>
          <p:cNvSpPr/>
          <p:nvPr/>
        </p:nvSpPr>
        <p:spPr>
          <a:xfrm>
            <a:off x="6019920" y="4232160"/>
            <a:ext cx="3124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 92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мешан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стройства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повед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эмоци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37"/>
          <p:cNvSpPr/>
          <p:nvPr/>
        </p:nvSpPr>
        <p:spPr>
          <a:xfrm>
            <a:off x="3733920" y="5638680"/>
            <a:ext cx="2361960" cy="990720"/>
          </a:xfrm>
          <a:prstGeom prst="flowChartOffpageConnector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«Бедная симптомами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шизофр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 21.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1600200" y="1828800"/>
            <a:ext cx="6019920" cy="9144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ы  вялотекущей шизофрени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детском возраст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1752480" y="3733920"/>
            <a:ext cx="762120" cy="838080"/>
          </a:xfrm>
          <a:prstGeom prst="downArrow">
            <a:avLst>
              <a:gd name="adj1" fmla="val 50000"/>
              <a:gd name="adj2" fmla="val 27492"/>
            </a:avLst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09480" y="281952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врозоподобна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шизофр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3581280" y="2819520"/>
            <a:ext cx="26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сихопатоподобн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шизофр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6400800" y="2819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иклотимоподобн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шизофр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1066680" y="4572000"/>
            <a:ext cx="2167200" cy="642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врозоподоб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ндром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3581280" y="4572000"/>
            <a:ext cx="2514600" cy="642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сихопатоподобн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ндром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6400800" y="4572000"/>
            <a:ext cx="2508120" cy="5806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ффектив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индромы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609480" y="51055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ревожно-фоб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стройств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сессивно-компульсив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строй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3505320" y="52578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грессивно-садистические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атология влечени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стройства поведен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6248520" y="518148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типичная гипома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типичная депрессия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684360" y="18900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Бедная симптомами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шизофр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14"/>
          <p:cNvSpPr/>
          <p:nvPr/>
        </p:nvSpPr>
        <p:spPr>
          <a:xfrm>
            <a:off x="1403280" y="907920"/>
            <a:ext cx="762120" cy="838440"/>
          </a:xfrm>
          <a:prstGeom prst="upArrow">
            <a:avLst>
              <a:gd name="adj1" fmla="val 50000"/>
              <a:gd name="adj2" fmla="val 27504"/>
            </a:avLst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15"/>
          <p:cNvSpPr/>
          <p:nvPr/>
        </p:nvSpPr>
        <p:spPr>
          <a:xfrm>
            <a:off x="4495680" y="3733920"/>
            <a:ext cx="762120" cy="838080"/>
          </a:xfrm>
          <a:prstGeom prst="downArrow">
            <a:avLst>
              <a:gd name="adj1" fmla="val 50000"/>
              <a:gd name="adj2" fmla="val 27492"/>
            </a:avLst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6"/>
          <p:cNvSpPr/>
          <p:nvPr/>
        </p:nvSpPr>
        <p:spPr>
          <a:xfrm>
            <a:off x="7238880" y="3733920"/>
            <a:ext cx="762120" cy="838080"/>
          </a:xfrm>
          <a:prstGeom prst="downArrow">
            <a:avLst>
              <a:gd name="adj1" fmla="val 50000"/>
              <a:gd name="adj2" fmla="val 27492"/>
            </a:avLst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17"/>
          <p:cNvSpPr/>
          <p:nvPr/>
        </p:nvSpPr>
        <p:spPr>
          <a:xfrm>
            <a:off x="7020000" y="907920"/>
            <a:ext cx="761760" cy="838440"/>
          </a:xfrm>
          <a:prstGeom prst="upArrow">
            <a:avLst>
              <a:gd name="adj1" fmla="val 50000"/>
              <a:gd name="adj2" fmla="val 27517"/>
            </a:avLst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2771640" y="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 синдромо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атологическ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антазирова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9"/>
          <p:cNvSpPr/>
          <p:nvPr/>
        </p:nvSpPr>
        <p:spPr>
          <a:xfrm>
            <a:off x="5562720" y="1890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 синдромом наруш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ищевого поведения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20"/>
          <p:cNvSpPr/>
          <p:nvPr/>
        </p:nvSpPr>
        <p:spPr>
          <a:xfrm>
            <a:off x="4211640" y="907920"/>
            <a:ext cx="762120" cy="838440"/>
          </a:xfrm>
          <a:prstGeom prst="upArrow">
            <a:avLst>
              <a:gd name="adj1" fmla="val 50000"/>
              <a:gd name="adj2" fmla="val 27504"/>
            </a:avLst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684360" y="1412280"/>
            <a:ext cx="8135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ение предикторов различных исход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учение закономерностей смены ведущих синдром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ение форма шизотипического расстрой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учение влияния варианта течения заболе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лиз процессуа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в классификациях самостоятельности  шизотипического расстрой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Прямоугольник 2"/>
          <p:cNvSpPr/>
          <p:nvPr/>
        </p:nvSpPr>
        <p:spPr>
          <a:xfrm>
            <a:off x="1979640" y="333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чи при изучении Шизотипического расстро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иболее часто применяемые нейролептики, разрешенные к применению в РФ в детском возрасте на 2009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26920" y="1703520"/>
          <a:ext cx="7772400" cy="51814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иназин та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5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иназин р-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3-х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лоперидол ретиформ кап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3-х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лоперидол та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3-х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лоперидол р-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3-х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опикс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й возраст, точных данных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озап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5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лептил р-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3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лептил кап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0 лет с осторожность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напак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4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флупераз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6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кс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ных о детском возрасте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зерц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12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фтаз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е 3-х лет с осторожность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рпротикс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чных данных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льпирид кап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6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ераз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12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1042920" y="1844640"/>
            <a:ext cx="7696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ялотекущая шизофр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ыделяется как самостоятельная форма шизофренического процесса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 детском возрасте (Сухарева Г.Е. 1956, Вроно М.Ш.1971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ялотекущая форма занимает значительное место среди других форм  детской шизофрени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Козлова И.А.199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ровень заболеваемости психическими расстройствами у разных возрастных групп 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по данным Менделевича Б.Д.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Chart 1" descr=""/>
          <p:cNvPicPr/>
          <p:nvPr/>
        </p:nvPicPr>
        <p:blipFill>
          <a:blip r:embed="rId1"/>
          <a:stretch/>
        </p:blipFill>
        <p:spPr>
          <a:xfrm>
            <a:off x="822240" y="1620720"/>
            <a:ext cx="793764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ровень заболевания расстройствами шизофренического спектра у разных возрастных групп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Chart 4" descr=""/>
          <p:cNvPicPr/>
          <p:nvPr/>
        </p:nvPicPr>
        <p:blipFill>
          <a:blip r:embed="rId1"/>
          <a:stretch/>
        </p:blipFill>
        <p:spPr>
          <a:xfrm>
            <a:off x="603360" y="1695600"/>
            <a:ext cx="815652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Chart 8" descr=""/>
          <p:cNvPicPr/>
          <p:nvPr/>
        </p:nvPicPr>
        <p:blipFill>
          <a:blip r:embed="rId1"/>
          <a:stretch/>
        </p:blipFill>
        <p:spPr>
          <a:xfrm>
            <a:off x="603360" y="1657440"/>
            <a:ext cx="8156520" cy="480996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3"/>
          <p:cNvSpPr/>
          <p:nvPr/>
        </p:nvSpPr>
        <p:spPr>
          <a:xfrm>
            <a:off x="755640" y="47628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агностическое распределение детей поступивших  в стационар с 2004 по 2008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ределение пациентов детского возраста поступивших в стационар с 2004 по 2008 год по  формам шизотипического расстройства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Chart 4" descr=""/>
          <p:cNvPicPr/>
          <p:nvPr/>
        </p:nvPicPr>
        <p:blipFill>
          <a:blip r:embed="rId1"/>
          <a:stretch/>
        </p:blipFill>
        <p:spPr>
          <a:xfrm>
            <a:off x="822240" y="1676520"/>
            <a:ext cx="7504200" cy="47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иагноз Шизотипическое расстройство (F 2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971640" y="2421000"/>
            <a:ext cx="741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устанавливается по  совокупности общих клинических признаков, необходимых для диагностики вялотекущего шизофренического процесса, с учетом закономерностей, специфичных детскому возраст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838080" y="154080"/>
            <a:ext cx="7772400" cy="110484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линические признаки, необходимые для диагностики вялотекущего шизофренического процесса в детском возраст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990720" y="1295280"/>
          <a:ext cx="7470720" cy="592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95280"/>
                    <a:ext cx="7470720" cy="592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Rectangle 4"/>
          <p:cNvSpPr/>
          <p:nvPr/>
        </p:nvSpPr>
        <p:spPr>
          <a:xfrm>
            <a:off x="609480" y="1335240"/>
            <a:ext cx="228600" cy="228600"/>
          </a:xfrm>
          <a:prstGeom prst="rect">
            <a:avLst/>
          </a:prstGeom>
          <a:gradFill rotWithShape="0">
            <a:gsLst>
              <a:gs pos="0">
                <a:srgbClr val="cc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609480" y="3925800"/>
            <a:ext cx="228600" cy="22860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609480" y="4992840"/>
            <a:ext cx="228600" cy="22860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609480" y="4992840"/>
            <a:ext cx="228600" cy="228600"/>
          </a:xfrm>
          <a:prstGeom prst="rect">
            <a:avLst/>
          </a:prstGeom>
          <a:gradFill rotWithShape="0">
            <a:gsLst>
              <a:gs pos="0">
                <a:srgbClr val="cc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609480" y="3925800"/>
            <a:ext cx="228600" cy="228600"/>
          </a:xfrm>
          <a:prstGeom prst="rect">
            <a:avLst/>
          </a:prstGeom>
          <a:gradFill rotWithShape="0">
            <a:gsLst>
              <a:gs pos="0">
                <a:srgbClr val="cc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609480" y="2743200"/>
            <a:ext cx="228600" cy="228600"/>
          </a:xfrm>
          <a:prstGeom prst="rect">
            <a:avLst/>
          </a:prstGeom>
          <a:gradFill rotWithShape="0">
            <a:gsLst>
              <a:gs pos="0">
                <a:srgbClr val="cc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инамика развития вялотекущей шизофрен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719280" y="1802160"/>
            <a:ext cx="8100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намика развития вялотекущей шизофрении определяется, длительным течением и последователь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цессуальной трансформацией доминирующей психопатологической симптоматики в обострениях, постепенным нарастанием негативных изменений, не достигающих степени выраженного дизонтогенез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этой диагностической рубрике относятся случаи, когда нарушения развития проявляются не столько в задержке, сколько в искажении и незрелости по типу психического инфантилизм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0T10:10:56Z</dcterms:created>
  <dc:creator>I. A. Kozlova</dc:creator>
  <dc:description/>
  <dc:language>en-US</dc:language>
  <cp:lastModifiedBy>User</cp:lastModifiedBy>
  <cp:lastPrinted>2004-04-14T14:59:49Z</cp:lastPrinted>
  <dcterms:modified xsi:type="dcterms:W3CDTF">2010-11-10T06:57:19Z</dcterms:modified>
  <cp:revision>98</cp:revision>
  <dc:subject/>
  <dc:title>Формы вялотекущей шизофрении в детском возрасте  (F 21- «шизотипическое расстройство»)</dc:title>
</cp:coreProperties>
</file>