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3C94-6467-424A-86CC-0040F53A29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3153-9BA5-4C79-A20F-4CF7B22BA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F47-2846-4C65-842D-9D38E3C3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35E-9986-497E-9158-42AB421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774-5FAD-4EDE-9078-036C425B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C9B-474A-412A-B5E7-90F6FD2F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6EDD-3072-424E-BB99-4CAA068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3E18-693E-437A-9105-91A0166E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956D-DDA9-4A6E-B640-01824DCA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4FB2-70C6-4B3E-92B1-FA501EF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C74B-F6C4-4466-B334-BC6F2328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F302-0721-43DF-A345-70812B08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E288-584B-469B-A6F5-02257F4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70B-7DDE-4082-B556-6DF58D4D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474B-340C-460B-A8FB-8A48E5DD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A3BC-80AF-458F-99E6-7F9D24D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F759-5D2A-432A-B73A-7620071E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B902-64B8-4E7F-890C-DDCD7101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4685-3260-462E-B05E-CF3246C8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2FAA-51B7-41F5-B7DA-55AB06FF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734D-02F8-4329-B72E-9B0127BA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B2E9-888F-4D4E-A925-B5B9A25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9CEE-82E5-424F-83C4-C4F0A927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08E6-3CD0-4FA5-BF63-4C471BD7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848-B5C6-4B9B-B533-BC1D3B79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A73E-E98D-45A3-9FAB-53AC6F7F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EC4D-F78E-4C7B-86B4-3AE2534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A4FF-C430-4456-ABEC-E660C10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AA58-AC3C-43C1-81EE-492D743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1249-984F-4B63-9FBA-5A184DC6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832A-96B1-4C0A-A986-46DC2A8E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E0A0-9384-46D9-B818-CF52DA96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A62B-FAEF-45D2-8062-13FE6729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C3F8-FDC9-48E6-AD5E-C99EBBB7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E8B2-605B-4B73-B456-4002838A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C51-E392-4AE5-AEBF-C7325A8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5210-C8DD-4971-9593-C79DB013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57CF-1AC1-49CD-A589-7DC5CDC5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E6BF-2411-46B8-BAE6-C8B5BEB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7E441-1946-4019-85DF-55DE2759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7BD1-89C2-489B-993A-9A6BC6D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BB75-216F-4B9F-9A46-D8D9D96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0F03-1DDC-4AC2-86F0-DCD5A8DF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2556-37EF-4314-8971-72415031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155E-D9FF-4CDD-9D1D-FB72604C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C70F0-AFCF-42AD-A0ED-343B7A4C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C3D-118D-45B6-B4D7-E9BB3A3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98A0-A89C-44FA-935F-6C19CA81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3830-F3F1-40E6-8DDE-BDFE2618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90B28-F101-4F1E-BD7C-3742C31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4295-1097-4450-A6A6-DE543339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55916-6820-45DB-9F45-D32E951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8563-5C50-431F-9035-CC9BED6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32A9A-B7BE-40FB-82E5-551DEEB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5118-F90E-4C00-A782-FABE68E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AF05-E364-4807-9EEB-FE9E5328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2C21-00B4-422E-9916-8CD6A681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EC9-A8C5-41F3-B3FE-20F60154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082F-A8B3-4BAA-90A1-13B1ECA0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E61AE-F329-4A5A-8F4B-3C0F49DC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701E-FA15-448D-8B74-0108AC8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4A2E-C6B7-4DD3-9CC8-D7A3CB49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2A78-A9AA-4BA5-935C-785E735A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BC2AD-B7B8-4493-BB40-1001B194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D2F9-BB7F-4CB4-B4A3-C0952014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B06FF-63ED-4BD7-95E7-B943F13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5F0FD-7DC2-42F2-811D-F0121DCD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20A54-4C73-43C8-86E4-954EDD0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90C-C36F-442B-8100-EE81A47D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6AA96-28C0-428A-A79F-84AF37F6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3CD43-E21E-43AA-9CB5-A93B31CE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FDB8-E0E0-4B81-B825-2D41C95C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ABE01-224C-44E9-8F34-DD2C6714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8BC4-EAFA-4678-81A9-D4F44241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BD680-7C9F-41A8-9844-A7A5C844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C317-E86C-4645-9E29-FC861188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3D41F-D6C4-441A-B4E7-AC6B286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C427A-2900-4637-8ACA-9533120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20A3-C8C1-4A29-8D1C-9578B616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43A-F36C-469A-B44D-C2B7036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064B-EFF9-43AE-AF9E-23CFFFE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2FA4-56B8-4F2E-8B05-6ABB0B7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372A4-C209-4B2B-8E77-8472524D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7ECD-AAA0-4E86-96E6-58082650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3913C-74B7-481C-A7BA-6AFDCFCD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5EA-73A4-4BF5-BBE1-CF2DF22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AC5B-2C72-4486-BBA0-5A680CBC2A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86F6-D81C-4BA4-B683-CAB6D4E508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89E-49BB-42E2-A40A-06643AE7D5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244-D56D-4E07-80D9-CD45E9A78B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6E9A-F8F8-4E6B-9EF6-90C8475FF2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6965-2209-4B8E-9557-555EE20FD5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F23A-271C-4392-9E3D-9C7A98269C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429680" cy="2357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ейрофизиологические маркеры психических расстройств в детском возраст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7407360" cy="1752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афедра детской, подростковой психиатрии и медицинской психологии УГМАДО, г.Челябинск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.м.н. Малинина Е.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.м.н. Супрун С.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2143080" y="5857920"/>
            <a:ext cx="564372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ъезд психиатро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10.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качественные эпилептиформные паттерны детст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66000"/>
          </a:bodyPr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ЭПД характерный, но неспецифичный паттерн для ИПЭ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пилепсия без эпи.приступо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errini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2000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дром детской когнитивной эпилептиформной дезинтеграции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bbi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2002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обретенный эпилептический лобный синдром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let-Perez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2007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пилептические непароксизмальные расстройства (Л.Р.Зенков, 2008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ассификация заболеваний и состояний, ассоциированных с ЭЭГ феноменом ДЭПД (К.Ю.Мухин, А.С.Петрухин, 2008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6480" indent="-252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ая эпилептиформная дезинтеграция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четание эпилептиформной активности (чаще типа ДЭПД) с клиническими непароксизмальными нарушениям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чевы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гнитивны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еденчески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врологически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изайн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ко-психопатологически и электроэнцефалографически (ЭЭГ – видео мониторинг, ЭЭГ сна) изучено 149 детей дошкольного  возраста  с различной психической патологией и отсутствием эпилептических приступов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оречевого развит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8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ая отсталость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ие психические наруше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Г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6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аутистического спектр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ротические расстройства (тики, энурез, парасомнии,  логоневроз, невропатия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адаптации и поведе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труктура психической патолог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0" name="Содержимое 3"/>
          <p:cNvGraphicFramePr/>
          <p:nvPr/>
        </p:nvGraphicFramePr>
        <p:xfrm>
          <a:off x="1434960" y="1525680"/>
          <a:ext cx="7499520" cy="46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1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4960" y="1525680"/>
                    <a:ext cx="74995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езультаты ЭЭГ исследования у детей с психической патологи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Содержимое 3" descr=""/>
          <p:cNvPicPr/>
          <p:nvPr/>
        </p:nvPicPr>
        <p:blipFill>
          <a:blip r:embed="rId2"/>
          <a:stretch/>
        </p:blipFill>
        <p:spPr>
          <a:xfrm>
            <a:off x="1214280" y="1500120"/>
            <a:ext cx="7286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ЭГ феномены при психической патолог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ЭСМ – при УО и ЗПРР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ЭП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тистических расстройствах (8,1%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ПРР (1,3%), по 1 ребенку с УО, СДВГ и орг.псих.расстройств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альные и генерализованные  эпи. разряды – при ЗПРР (0,7%) и аутизме (2%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лептическая активность – при ЗПРР (1,3%), при СДВГ (0,7%), при органических расстройствах (2,7%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0" y="457200"/>
            <a:ext cx="9791640" cy="52768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2709720" y="5854680"/>
            <a:ext cx="372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9/1/2010 13:41 37 345.  30 </a:t>
            </a: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ек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ЭЭГ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 20</a:t>
            </a: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к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0.5-70 </a:t>
            </a: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Гц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хе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3376800" y="-46800"/>
            <a:ext cx="239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л: М   Возраст: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ата исследования: 10.04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0" y="709560"/>
            <a:ext cx="9725040" cy="52196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2218320" y="5782320"/>
            <a:ext cx="470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 10/4/2009 22:31 :\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.09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§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30 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е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ЭЭГ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 15 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к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0.5-70 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Гц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хем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376800" y="29160"/>
            <a:ext cx="239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ата исследования: 27.04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0" y="457200"/>
            <a:ext cx="9734400" cy="53244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4146120" y="590220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траница №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равнение результатов исследован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34960" y="1447920"/>
          <a:ext cx="7499520" cy="557820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387440"/>
                <a:gridCol w="2362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в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обследуе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Э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 психической пат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.Р.Зенков (20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с психической патологи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 (10,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Речевые нарушения – 11 (7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СДВГ – 6 (3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Аутизм – 3 (1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ЗПРР – 5 (3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 Нарушения поведения – 7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.Ю.Мухин (20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20 (общей популя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СДВГ – 2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ЗПРР – 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Неврозоподобные расстройства – 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.В.Малинина, С.А.Супр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с психической патологи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Аутизм – 15 (27,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ЗПРР – 2 (1,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УО – 1 (0,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СДВГ – 1 (0,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ОРГ.ПСИХ.РАС. – 1 (0,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Актуальность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мя доказательной медицин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иск маркеров психических расстройств (генетических, иммунологических, биохимических, нейрофизиологических и   др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пилептология (техническое оснащение диагностики – критерии диагноза – изучение нейрофизиологических феноменов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искуссионное отношение  к внеприступной эпилептиформной актив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изайн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личество наблюдений – 4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итерии включени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раст – 2-7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т (Средний возраст пациентов в группе ДЭПД составил 5,3 ± 0,47 года, а в группе сравнения – 4,1 ± 0,37 года (критерий Манна-Уитни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[7; 31]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=53,0;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=0,0315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сстройства аутистического спектра (МКБ-10; НЦПЗ, Тиганов А.С., Башина В.М., 2005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итерии исключени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кущие органические расстройст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личие в анамнезе и на момент исследования эпилептических приступ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изайн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линико-психопатологическ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йрофизиологический (ЭЭГ-видео мониторинг от 2-3 часов в состоянии бодрствования и во сне на аппарате электроэнцефалограф – анализатор ЭЭГА – 21/26 «Энцефалан – 131-03», модификация 14, Медиком МТД, г.Таганрог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атистический (критерий Манна-Уитни, критерий Пирсон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изайн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тский аутизм эволютивный, непроцессуальный – синдром Каннера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12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тский аутизм процессуальны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инфантильный психоз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2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типичный детский психоз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4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ндром Аспергера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4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642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сследуемые парамет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434960" y="542880"/>
          <a:ext cx="7499520" cy="6218280"/>
        </p:xfrm>
        <a:graphic>
          <a:graphicData uri="http://schemas.openxmlformats.org/drawingml/2006/table">
            <a:tbl>
              <a:tblPr/>
              <a:tblGrid>
                <a:gridCol w="2136960"/>
                <a:gridCol w="1612800"/>
                <a:gridCol w="1887480"/>
                <a:gridCol w="186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лин.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ЭПД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ез ДЭПД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тат.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Наследственность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шизофрен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О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лепсия, алкоголизм, психопа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имптомы деб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грессивно-кататон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Регресс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Полиморф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Аутис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 = 0,0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Актуальные симпто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Когнитив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катато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полиморфные (неврозоподоб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= 0,0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75" name="Правая фигурная скобка 4"/>
          <p:cNvSpPr/>
          <p:nvPr/>
        </p:nvSpPr>
        <p:spPr>
          <a:xfrm>
            <a:off x="3286080" y="3000240"/>
            <a:ext cx="189000" cy="857520"/>
          </a:xfrm>
          <a:custGeom>
            <a:avLst/>
            <a:gdLst>
              <a:gd name="textAreaLeft" fmla="*/ 0 w 189000"/>
              <a:gd name="textAreaRight" fmla="*/ 68040 w 189000"/>
              <a:gd name="textAreaTop" fmla="*/ 4680 h 857520"/>
              <a:gd name="textAreaBottom" fmla="*/ 85284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7"/>
                </a:cubicBezTo>
                <a:lnTo>
                  <a:pt x="10800" y="10403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7"/>
                </a:cubicBezTo>
                <a:lnTo>
                  <a:pt x="10800" y="21203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авая фигурная скобка 8"/>
          <p:cNvSpPr/>
          <p:nvPr/>
        </p:nvSpPr>
        <p:spPr>
          <a:xfrm>
            <a:off x="4357800" y="2857680"/>
            <a:ext cx="46080" cy="928440"/>
          </a:xfrm>
          <a:custGeom>
            <a:avLst/>
            <a:gdLst>
              <a:gd name="textAreaLeft" fmla="*/ 0 w 46080"/>
              <a:gd name="textAreaRight" fmla="*/ 16560 w 46080"/>
              <a:gd name="textAreaTop" fmla="*/ 1080 h 928440"/>
              <a:gd name="textAreaBottom" fmla="*/ 9273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89"/>
                </a:cubicBezTo>
                <a:lnTo>
                  <a:pt x="10800" y="10711"/>
                </a:lnTo>
                <a:cubicBezTo>
                  <a:pt x="10800" y="10756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89"/>
                </a:cubicBezTo>
                <a:lnTo>
                  <a:pt x="10800" y="21511"/>
                </a:lnTo>
                <a:cubicBezTo>
                  <a:pt x="10800" y="215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следуемые параметр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34960" y="1447920"/>
          <a:ext cx="7499520" cy="4297320"/>
        </p:xfrm>
        <a:graphic>
          <a:graphicData uri="http://schemas.openxmlformats.org/drawingml/2006/table">
            <a:tbl>
              <a:tblPr/>
              <a:tblGrid>
                <a:gridCol w="2279880"/>
                <a:gridCol w="1643040"/>
                <a:gridCol w="1701720"/>
                <a:gridCol w="18748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прерывно-прогредиен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orbe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ступообра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orbe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егредиен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 = 0,0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Диа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синдром Канн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нфантильный псих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цессуальный аутизм с дебютом после 3-х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ндром Асперг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 = 0, 00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окализация ДЭН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имущественная локализация: Центральная, теменная, височная, лобная и затылочная област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осторонние –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восторонние –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грирование, распространение на др. обл.  -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35676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3% детей с аутистическими расстройствами дошкольного возраста имеют эпилептиформную активность (ДЭПД) на ЭЭГ, не сопровождающуюся клиническими проявлен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 ДЭПД психопатологическая симптоматика представлена клиническими критериями инфантильного психоза с регрессивным дебютом в возрасте до 3-х лет, непрерывно - прогредиентным течением и быстрым формированием олигофреноподобного дефек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просы, дискусс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вляется ли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причиной регресса эпилептиформная активность  (ДЭПД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причина регресса неизвестна   (инфекции, иммунизация, стресс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hinnar et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2001;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abell Rapin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2005;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Специфичность ДЭПД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отношении аутистических расстройств требует дополнительных исследова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опросы, дискусс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Маркер развития эпилепс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риск развития эпилепсии у детей с явлениями аутистического регресса значительно выше, чем без не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belle Rap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)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; у трети детей с аутизмом и эпилептиформной активностью к подростковому возрасту возникают эпилептические приступ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chman, 199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Коморбидность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5-30% страдающих аутизмом коморбидны  эпилептическим приступа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lan R.,199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chman R.F., 199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g-Ho Son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опросы, дискусс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ЭПД – маркер дизонтогене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рушений развития головного мозга, незрелости структур  и функций головного мозг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ЭПД – маркер незрелости головного мозга, признак «врожденных нарушений головного мозга»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os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Вопрос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ановки диагноза эпилепсии при отсутствии эпилептических приступ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заимосвязь психопатологических феноменов и эпилептической актив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валификация психопатологических нарушений при таких формах эпилепсии (этиопатогенетический и феноменологический аспект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Тактика терапи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современном этапе обсуждается применение антиэпилептических препаратов (вальпроаты, осполот, бензодиазепины, суксилеп, левитирацетам), стероидов, иммуноглобулинов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uchm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 Rap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2002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 существует эмпирически доказанного основания для рекомендаций специфического лечения аутистического регре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f271c"/>
                </a:solidFill>
                <a:latin typeface="Corbel"/>
              </a:rPr>
              <a:t>Спасибо за внимание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2" name="Содержимое 4" descr="48948481_35082292_Beluye_cvetochki_v_ladonyah.jpg"/>
          <p:cNvPicPr/>
          <p:nvPr/>
        </p:nvPicPr>
        <p:blipFill>
          <a:blip r:embed="rId1"/>
          <a:stretch/>
        </p:blipFill>
        <p:spPr>
          <a:xfrm>
            <a:off x="1868400" y="2249640"/>
            <a:ext cx="5407200" cy="43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Современные дефиниции эпилептолог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лепсия без эпилептических приступов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errini,200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ая эпилептиформная дезинтегра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bi, 200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качественные эпилептиформные нарушения детского возраст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ose, 2003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лептическая энцефалопат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Engel,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2001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Panayiotopoulos, 200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истирующая эпилептиформная активность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лептические непароксизмальные расстройств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Р.Зенков, 2006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эпилептиформный  аутистический регресс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Ю.Мухин, 2009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400960" cy="128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Концепция  эпилептических энцефалопат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9680" y="1785600"/>
            <a:ext cx="8286840" cy="43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ана на признании того факта, что агрессивная эпилептическая активность во время приступа или вне его, если она возникает на этапе постнатального онтогенеза головного мозга, является основной причиной регресса психических функ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гресс познавательных функций и нарушения поведения сопровождаются снижением нейрогенеза (уменьшается число глютаматэргических рецептор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.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. Panayiotopoulos, 200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56800" y="4357800"/>
            <a:ext cx="78296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cadc6"/>
                </a:solidFill>
                <a:latin typeface="Gill Sans MT"/>
              </a:rPr>
              <a:t>                      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0040" y="499680"/>
            <a:ext cx="842976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лигатный критерий эпилептических энцефалопатий – нарушения психических функ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-за выраженного регресса психоречевого развития эпилептические энцефалопатии иногда называют «катастрофическими» эпилепс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инические проявления зависят от возраста, а не от этиолог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разных эпилептических энцефалопатий могут быть схожие клинико-энцефалографически проявл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пилептические энцефалопатии могут эволюционировать с возраст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ладают тенденцией к облегчению симптомов или к их исчезновению в подростковом возрасте, но остается серьезный резидуальный когнитивный дефек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75866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оброкачественные эпилептиформные паттерны детства (ДЭПД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роландическая эпилептиформная активность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ЭГ паттерн, определяющий принадлежность к ИПЭ (РЭ, СЛК, ДЗЭ и др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рфологические характеристики едины, разница в локализ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Documents and Settings\User\Рабочий стол\лена\Статьи\2008\Мухину\Статья_ЭЭГ\Сканировать20001.JPG"/>
          <p:cNvPicPr/>
          <p:nvPr/>
        </p:nvPicPr>
        <p:blipFill>
          <a:blip r:embed="rId1"/>
          <a:stretch/>
        </p:blipFill>
        <p:spPr>
          <a:xfrm>
            <a:off x="-771480" y="-351000"/>
            <a:ext cx="10688760" cy="75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Исследования психического профиля детей с центротемпоральными спайка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00120" y="1499760"/>
            <a:ext cx="7499520" cy="4800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Weglage (1997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«роландический фокус не так доброкачественен, как это когда-то думалось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G.Millichap (200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брокачественная роландическая эпилепсия может быть недоброкачественной в отношении нервно-психического развития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N. Metz-Lutz  (2006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pani U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6) связывают когнитивную дисфункцию с характерным признаком роландической эпилепсии – центротемпоральным спайк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07T20:03:39Z</dcterms:modified>
  <cp:revision>38</cp:revision>
  <dc:subject/>
  <dc:title>Психические расстройства при эпилепсии в детском возрасте</dc:title>
</cp:coreProperties>
</file>