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82F-E367-4140-90A1-249C5C9B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D7D-DA93-4FC2-9A1D-E439B8F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C0C-A4C3-4E84-9859-1722DA09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57C-86CB-4299-8BFE-D7304664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148F-BEEC-4166-AC5D-7F545488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ED45-5C7D-4718-9963-CB89BEB7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E74-5BA6-4FDF-ABA4-3008DA6A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FA1-6286-4A46-B18B-45346006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4036-AAEA-4405-9B35-0AAE93EC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FD06-7009-4367-B53C-17DC676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EF51-B200-4F9C-BBDF-AA6964E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77B-32CF-41AD-B912-400461A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E6F3-C43F-4142-8C47-4B91786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F03-C0B5-4FDE-A1AA-83AC8C8C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320-6076-4454-88CB-5B760EE1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BE7A-0921-4FE3-B78C-0E835AE5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6F54-93DB-432B-A1AA-8564A26B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446-5533-4C74-BEB6-CB951456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3AA-AD64-4D25-BF16-5A9D7273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5A5-462D-4104-A506-1524B26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C9E-09FD-4683-8395-F90C5B5A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304-3157-47AD-BFE8-6E5BE8C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B2C-E48C-49C6-81B6-B15E6EC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CA6-A2EE-44B7-82E6-638E414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7D5-8303-467E-922D-203A81985F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944-B6C2-46C5-B23A-3E993BBF7B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Шалимов В.Ф.- доктор медицинских наук,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ведущий научный сотрудник Государственного научного Центра социальной и судебной психиатрии им В.П.Сербск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9144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Социально-психиатрическая помощь детям в условиях образовательно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846000"/>
            <a:ext cx="65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бы на зрительный предметный гноз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Различение ритмических последователь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оспроизведение ритмических последователь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Реципрокная координация дви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оспроизведение графического ряда из двух сменяющихся звен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ба "перебор пальцев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оспроизведение позы пальц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бы Хэ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кладывание по образцам 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странственно 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рганизованных струк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словные двигательные ре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8900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Набор нейропсихологических заданий для анализа состояния ВП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209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ба Ко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Заучивание 10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сследование речевой мотор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сследование фонематического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ба на понимание 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логико-грамматических констру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ересказ текста, составление рассказа   по сюжетной карти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ись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четные оп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Решение арифметических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1065240"/>
          <a:ext cx="3024000" cy="286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065240"/>
                    <a:ext cx="302400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762120"/>
          <a:ext cx="2951280" cy="316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762120"/>
                    <a:ext cx="295128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11040" y="4149720"/>
          <a:ext cx="3065400" cy="3816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1040" y="4149720"/>
                    <a:ext cx="30654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24360" y="4149720"/>
          <a:ext cx="2952720" cy="26082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4149720"/>
                    <a:ext cx="295272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4920" y="78912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Диаграмма 1. ППР по типу ретард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645000"/>
            <a:ext cx="39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Диаграмма 3. ППР по типу церебральной альт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7650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иаграмма 2. ППР по типу деприв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363996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Диаграмма 4. Контрольная группа («норма»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3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Внутригрупповые характеристики когнитивной сферы у детей с ППР и группы «норма» в соответствии с уровнями сформирова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04160" y="4303800"/>
            <a:ext cx="232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несформированность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сихических процессов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по функционально-динамическому тип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1035000"/>
            <a:ext cx="2139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сихические процессы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интериоризированы, недостаточность структурных компонентов не вы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61320" y="1179360"/>
            <a:ext cx="131760" cy="1429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2819520"/>
            <a:ext cx="218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недостаточная интериоризация структурно сложившихся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сихических процес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3141720"/>
            <a:ext cx="14436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4581360"/>
            <a:ext cx="14436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5354640"/>
            <a:ext cx="227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стойкая несформированность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сихических процессов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при усложнении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5591160"/>
            <a:ext cx="14472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476360" y="1268640"/>
            <a:ext cx="433440" cy="4824360"/>
            <a:chOff x="1476360" y="1268640"/>
            <a:chExt cx="433440" cy="4824360"/>
          </a:xfrm>
        </p:grpSpPr>
        <p:sp>
          <p:nvSpPr>
            <p:cNvPr id="142" name=""/>
            <p:cNvSpPr/>
            <p:nvPr/>
          </p:nvSpPr>
          <p:spPr>
            <a:xfrm flipV="1">
              <a:off x="1693800" y="1268640"/>
              <a:ext cx="0" cy="482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76360" y="6091560"/>
              <a:ext cx="433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476360" y="1268640"/>
              <a:ext cx="433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42920" y="1341360"/>
            <a:ext cx="576360" cy="1873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060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2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4762440" cy="304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47624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4360" y="692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формирова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6200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ойкая несформирова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3357720"/>
            <a:ext cx="576360" cy="1873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4428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Варианты структурно-динамических отклонений при пограничных психических расстрой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1052640"/>
            <a:ext cx="4427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формированность компонентного состава психических фун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зрелость произвольной регуляции на этапе реализации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мощь в виде общей организации произвольного поведения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75280" y="3860640"/>
            <a:ext cx="4968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сформированность компонентного состава психических фун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зрелость всех звеньев произвольной регу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мощь в виде планирования деятельности и поэтапного формирования умственных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36572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Тип церебр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альт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6360" y="6718320"/>
            <a:ext cx="217440" cy="1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99736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епривационный ти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9840" y="121932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етардированный ти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36450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ринципы социально-психиатрической  помощи детям с ППР в образовательном учреждении компенсирующего вид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Первичная квалификация психического расстройства пограничного уровня в соответствии с разработанной типологией, осуществляемая детским психиатр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Включение врача психиатра в консультативно-диагностический и коррекционно-реабилитационный процесс в течение периода пребывания детей в образовательном учрежден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Психопатологический анализ структуры ППР с привлечением результатов нейропсихологического и нейрофизиологического исследов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Модульный принцип дифференцированных социо-терапевтических программ с учетом выделенных типов ПП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Ориентация модели на оптимальную интеграцию детей в нормальную образовательную сре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несение поправки в «Закон о психиатрической помощи и гарантиях прав граждан при ее оказании»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с целью  обеспечения консультативной психиатрической помощи детям с ПП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Создание специализированной межведомственной научно-практической службы для детей с ПП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недрение результатов научных исследований в региональное поле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здравоохранения и образ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Социально-эпидемиологические исследова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Показатели болезненности и первичной заболеваемости психическими расстройствами детей и подростков на протяжении последних 10 лет превысили по </a:t>
            </a: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темпам роста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аналогичные показатели взрослых в</a:t>
            </a:r>
            <a:r>
              <a:rPr b="1" lang="ru-RU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2 р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Основную группу риска составили  дети  с </a:t>
            </a: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непсихотическими пограничными  формами расстрой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57320"/>
            <a:ext cx="8577360" cy="654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4100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2670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2767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337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37160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спространенность пограничных психических расстройств среди детей со школьной дезадапт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Специфика оказания социально-психиатрической</a:t>
            </a:r>
            <a:br>
              <a:rPr sz="2000"/>
            </a:b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помощи детям и подросткам с психическими расстройствам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Дети с 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выраженными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клиническими  формами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 психических расстройств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требующие      комплексного обследования детей и лечения в условиях психоневрологического диспансе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2b5481"/>
                </a:solidFill>
                <a:latin typeface="Times New Roman"/>
              </a:rPr>
              <a:t>Дети с 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медико-психологическими проблемами  пограничного уровня</a:t>
            </a:r>
            <a:r>
              <a:rPr b="0" i="1" lang="en-US" sz="1600" spc="-1" strike="noStrike">
                <a:solidFill>
                  <a:srgbClr val="2b5481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2b5481"/>
                </a:solidFill>
                <a:latin typeface="Times New Roman"/>
              </a:rPr>
              <a:t>требующие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психолого-психиатрической помощи  в местах приближенных к их жизнедеятельности (детские поликлиники, детские сады,  общеобразовательные школы, образовательные учреждения для детей нуждающиеся в психолого-педагогической и медико-социальной помощи –центр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</a:rPr>
              <a:t>Дети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 с медико-социальными проблемам,  внезапно оказавшиеся в ситуации сиротства, пострадавшие от различных форм физического или психического воздействия, насилия; дети с ограниченными возможностями</a:t>
            </a:r>
            <a:r>
              <a:rPr b="0" i="1" lang="en-US" sz="16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Медико-социальную помощь  такие дети получают в специализированных детских садах, специализированных школах (или школах - интернатах), специализированных  санаториях, приютах, учреждениях  социальной защи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Образовательное пространство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с точки зрения социально-психиатрической  помощи предполагает выделения следующих секторов (мишеней) в образовательном поле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бразовательные учреждения под курацией Минздравсоцразви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бщеобразовательные учреж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нклюзи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бразовательные учреждения, которые курируют другие ведомства (соц. защиты, МВ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Каждое из указанных направлений требует разработки оригинального пакета нормативных документов, ключевыми компонентами которых являются: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истематика психических расстрой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учета с опорой на интегрированные показатели, включающие клинико-психологические и социально-психологические парамет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деление полномочий между сопутствующими специалис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бязательный контроль (его форма) со стороны Минздравсоц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анализ социальной ситуации развития ребенка в основных сферах жизнедеятельности (семья, школа, досуг и значимое окруж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ведущие социальные инфраструктуры, (общеобразовательная среда, социальные службы опеки и попечительства, службы социальной профилактики) – через которые осуществляется взаимодействие специалистов отдельных социальных прак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социальное и психическое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функционирование ребенка с учетом  возрастного этапа психического разви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социально-клиническая характеристика пограничных психических расстройст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бъекты социально-психиатрической оценки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Модель социально-психиатрической помощи детям с пограничными психическими расстройствами в условиях образовательного учреждения компенсирующего вид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истематика психических расстрой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Разделение полномочий между сопутствующими специалистами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разработкой инструктивных докум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Оказание социально-психиатрической помощи детям  с учетом типа ПП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Коррекция учебно-образовательных программ с учетом типов ПП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47628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16160" y="1413000"/>
          <a:ext cx="4803840" cy="30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1413000"/>
                    <a:ext cx="48038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547640" y="33336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Распределение детей по тип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ограничных психических расстройст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227640" y="1341360"/>
            <a:ext cx="2952720" cy="3301920"/>
            <a:chOff x="6227640" y="1341360"/>
            <a:chExt cx="2952720" cy="3301920"/>
          </a:xfrm>
        </p:grpSpPr>
        <p:sp>
          <p:nvSpPr>
            <p:cNvPr id="111" name=""/>
            <p:cNvSpPr/>
            <p:nvPr/>
          </p:nvSpPr>
          <p:spPr>
            <a:xfrm>
              <a:off x="6588000" y="1341360"/>
              <a:ext cx="2592360" cy="33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Times New Roman"/>
                </a:rPr>
                <a:t>Ретардированный ти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imes New Roman"/>
                </a:rPr>
                <a:t>признаки инфантилиз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imes New Roman"/>
                </a:rPr>
                <a:t>- парциальная несформированность когнитивных процесс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7640" y="1628640"/>
              <a:ext cx="144360" cy="14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908000" y="3860640"/>
            <a:ext cx="49914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епривационный ти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астено-невротические и аффективные рас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сихическая и личностная незрелость с волевой и эмоциональной неустойчив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общая когнитивная недостаточ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4076640"/>
            <a:ext cx="177840" cy="14436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9760" y="1330200"/>
            <a:ext cx="327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Тип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церебральной альт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церебрастенические рас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отклонения в когни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447920"/>
            <a:ext cx="217440" cy="1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</cp:lastModifiedBy>
  <dcterms:modified xsi:type="dcterms:W3CDTF">2010-11-09T20:39:3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