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370-8E55-411D-AC82-6CA752E2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527-67A5-4280-8937-2A8A51A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51F-F89E-4986-B105-81592C8B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78D-725B-4BE9-A5F0-3525E147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057-9C6D-4013-A339-CD45502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0FD-97BC-42C2-8E75-3296541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F59-9CBF-440E-B950-719CABE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5E7-4FF3-48AB-B3FB-A8784F8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A9E-2230-407D-A657-E84F4CC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363-04E9-4165-8F45-B207AE0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D22-08B6-405D-BF06-8BE12B6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635-322E-47C6-9BF0-3386C58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D54-FF3D-46E2-B076-E714350A6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РОСТОВСКИЙ ГОСУДАРСТВЕННЫЙ МЕДИЦИНСКИЙ УНИВЕРСИТ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КАФЕДРА ПСИХИАТРИИ И НАРКОЛОГИИ ФПК И ППС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К вопросу о классификации психических расстройств в детском и подростковом возрасте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овалев А.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скв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0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b4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тремление к созданию систематик психических расстройств проходит через всю историю мировой психиатрии.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N. Sartorius, 199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b4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дала МКБ-1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b4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Унификация подходов к диагностическому процессу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Расширение детских психопатологических  рубрик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Много-осевая диагнос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БЛЕМЫ МКБ-10: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. Отсутствие единства систематик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атеоретичность)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. Статистическое руковод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3. Отсутствие в детских рубриках  эволюционно-биологического и онтогенетического подход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4. Недостаточная проработанность атипичного проявления патолог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5. Нет связи между взрослыми и детскими раздела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6. Статичность классифик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7. Коморбидност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8. Дестигматиз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ЕДЛОЖЕНИЯ: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 МКБ-11 целесообразно структурно начать 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убрик «Расстройства детского и подросткового возраста»  таким образом будет заложен онтогенетический принцип в классификации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 Взять за  основу систематики раздел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тология психического развит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типы психического дизонтогенеза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ИПЫ ПСИХИЧЕСКОГО ДИЗОНТОГЕНЕЗ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етардация: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ержки психического развития, расстройства речи (экспрессивной и  рецептивной), задержки развития школьных навыков (дислексия, дисграфия, дискалькулия), гармонический психический инфантилизм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эту группу можно отнести и умственную отсталость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асинхрония: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эту группу отнести  все варианты аутизма (Аспергера, Каннера, атипичный), дисгармонический психический инфантилизм (основа формирования в будущем некоторых вариантов психопатий)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психический регресс: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 эту группу отнести синдром Ретта, синдром Краммера-Польнова, другие дезинтегративные расстройства  детского возраста, детские деменции, синдром Ландау-Клефнер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b4e7"/>
          </a:solidFill>
          <a:ln w="9360">
            <a:solidFill>
              <a:srgbClr val="33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ЕДЛОЖЕНИЯ:</a:t>
            </a:r>
            <a:br>
              <a:rPr sz="4400"/>
            </a:b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общих разделах (шизофрения, аффективные расстройства) целесообразно введение возрастных клинических критериев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. Дополнительные клинические критерии в рубрику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91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5. Уменьшение количества рубрик путем объединения и исключения «парадиагнозов» типа «сиблинговое соперничество», «речь взахлеб» и т.п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b4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ЕДЛОЖЕНИЯ:</a:t>
            </a:r>
            <a:br>
              <a:rPr sz="44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-осевая диагностик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волюционный путь развития классификац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8. Создание национальной классификации (при условии обеспечения ее аффилиированности с МКБ-11) </a:t>
            </a:r>
            <a:br>
              <a:rPr sz="3200"/>
            </a:br>
            <a:br>
              <a:rPr sz="3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0-11-09T21:59:38Z</dcterms:modified>
  <cp:revision>106</cp:revision>
  <dc:subject/>
  <dc:title> К вопросу о классификации психических расстройств в детском и подростковом возрасте </dc:title>
</cp:coreProperties>
</file>