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3C91-6B12-4270-B1BF-72FC642E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510-4F31-4F6C-A2C4-C6A4F5E6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F80-C1A2-4F5B-8E93-007942E6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ECB7-EAB5-4B67-AB2D-7B626FC4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CBC7-AC5B-47D6-9ADC-F7D7F856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7737-3C51-4BAA-9301-F71D574F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018F-C123-4F40-9B2A-02D8535C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FE90-BED7-4831-B40F-4B3D8526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C511-9188-4587-AF45-22DEE6A3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CA7F-12EB-4BC0-B50B-75B751FB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C035-462E-4B4F-97F8-58D270EF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20E-7E74-4786-BE94-9E5AC3B2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7C78-A16F-4B85-B3D2-0019F2BA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5E0F-4F17-4B61-B4AD-B01BC793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0C4C-366F-47ED-85DA-31C74898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789E-AFEA-4FDA-8414-DE4838EB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DC06-22E8-4138-B34C-C7E0C4C6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F83E2-37C7-4D86-B074-1DFF77C2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B1873-B946-4742-B0EE-D3705740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13A0D-8B5C-4AE8-AA3E-1706CE38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A3AD6-DA4C-4D96-8138-DED6920C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0B01-4567-4B8F-BC1A-63037B5E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E68-D97E-430D-8848-A3D0A922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75348-FFD0-40F2-9DCA-9462452D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1D08D-B12D-4505-A674-2A51A37C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DEAD-84B0-44F4-8B12-7C4F134D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9FB1B-0BAD-42F4-9885-40FB9621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6CA0-6CBD-4E36-9A17-CD2449A5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D383F-78F0-4644-942C-C94CFCFB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12ED-0984-480D-8411-AD1026C4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A83F6-93AF-4C99-8B2E-DD2B8379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AC1F6-B201-40CF-BFD5-30186FE9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2AF5E-2EE2-4AD5-9354-39A11839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469-D55A-49D6-92E4-B3F340EC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C99BD-5301-4A97-94E0-85F82275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F57D5-AAB7-48A5-83D7-8B36E424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86DF5-9AAA-48F3-ADD5-450335A0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C2ED4-44E7-4FEC-B5D2-EC1AB647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06784-787B-47C4-BC4E-E11D7019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9DBC3-64FB-475A-B2B3-27748553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DF5E0-EB27-4EB0-8FD9-310A19D4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51FBF-A586-4467-97BB-DD633C4E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717F4-DA8C-48E2-B9E7-AEAA1C03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E9E86-6CF4-4C5F-B958-7CA43414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D8E-12AD-41C6-AFE3-DA0D52AE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5F609-1511-4B0F-9516-4F7AE881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680F6-F869-4577-88C1-20ED55E8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29FB2-5051-43E5-A476-2A47F3E8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DDF99-1ACA-46F5-B390-D0733269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4A5C4-0DFC-4F5A-A901-0F5D2A86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8A34D-0096-43E6-BBE8-F78600E7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3D095-B220-4FFA-ADFB-86C94614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87969-ED73-4053-AED0-43504982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D0031-5529-4435-898A-30DBD76B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CC0B5-9E13-45E3-BA3E-3B1E0E88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F1A-1CFF-4D2F-A1A6-BE0FD976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CD4C3-875E-4235-91F7-B647C6EB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D6A96-9842-4EFD-B14C-B41FFA4A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A4B9A-915A-4CBF-825D-46AA7CAB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255FD-A8FC-476C-912F-2A2C65ED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AF31D-1AC3-4B9A-BADA-5208F352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E44B6-6296-4D1C-8F13-5ACE6BC1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A6ED5-4CB7-4F78-957C-1554C61A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8F5F1-0C68-4B80-BE4B-20099CE5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277B2-DDAF-47DF-8EF2-535BB225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194C3-411F-496E-BF97-CC236F6E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86A-5A67-4C4B-A3C5-91F05FB3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69B33-E561-4720-8299-CF552919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71FA5-EAF7-43B5-8033-B65B7088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453A0-7B1D-42B8-9B29-BC37FE13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3A8-1299-4C9F-AC76-FF8ED347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10C-6D80-4284-A18B-D3CE8DC6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6E74-1E51-400E-A3BA-7AF67032AFE4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384d"/>
            </a:gs>
            <a:gs pos="100000">
              <a:srgbClr val="7c889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265C-E49A-40EE-A932-92995912CFFD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384d"/>
            </a:gs>
            <a:gs pos="100000">
              <a:srgbClr val="7c889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1097-A87D-4687-A632-A3B39E3476F9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FA46-3277-4989-8A91-F3A7B844FDF3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03C7-F24E-4C89-B17F-9AC47A0885D8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EE65-CBC6-4898-A2EA-3B88AA753B9D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3"/>
          <p:cNvSpPr/>
          <p:nvPr/>
        </p:nvSpPr>
        <p:spPr>
          <a:xfrm>
            <a:off x="1162080" y="928800"/>
            <a:ext cx="6000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Calibri"/>
                <a:ea typeface="Calibri"/>
              </a:rPr>
              <a:t>Групповая психологическая работа с персоналом психиатрических стационар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"/>
          <p:cNvSpPr/>
          <p:nvPr/>
        </p:nvSpPr>
        <p:spPr>
          <a:xfrm>
            <a:off x="662040" y="4587840"/>
            <a:ext cx="65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af7f1"/>
                </a:solidFill>
                <a:latin typeface="Calibri"/>
                <a:ea typeface="Calibri"/>
              </a:rPr>
              <a:t>Т.А. Солохина, Л.М. Алиева, В.В. Анохина, </a:t>
            </a:r>
            <a:br>
              <a:rPr sz="1600"/>
            </a:br>
            <a:r>
              <a:rPr b="0" lang="ru-RU" sz="1600" spc="-1" strike="noStrike">
                <a:solidFill>
                  <a:srgbClr val="caf7f1"/>
                </a:solidFill>
                <a:latin typeface="Calibri"/>
                <a:ea typeface="Calibri"/>
              </a:rPr>
              <a:t>Н.В. Марушкевич, Н.С. Грачева, А.И. Цапенк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4662360" y="53056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af7f1"/>
                </a:solidFill>
                <a:latin typeface="Calibri"/>
                <a:ea typeface="Calibri"/>
              </a:rPr>
              <a:t>НЦПЗ РАМН, МОСК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8"/>
          <p:cNvSpPr/>
          <p:nvPr/>
        </p:nvSpPr>
        <p:spPr>
          <a:xfrm>
            <a:off x="181080" y="5591160"/>
            <a:ext cx="8772480" cy="83340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Скругленный прямоугольник 7"/>
          <p:cNvSpPr/>
          <p:nvPr/>
        </p:nvSpPr>
        <p:spPr>
          <a:xfrm>
            <a:off x="162000" y="4014720"/>
            <a:ext cx="8772480" cy="139536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185760" y="182520"/>
            <a:ext cx="8786880" cy="106884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  <a:ea typeface="Calibri"/>
              </a:rPr>
              <a:t>Групповые формы психологической раб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Групп-аналитическая супервиз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Скругленный прямоугольник 3"/>
          <p:cNvSpPr/>
          <p:nvPr/>
        </p:nvSpPr>
        <p:spPr>
          <a:xfrm>
            <a:off x="142920" y="1357200"/>
            <a:ext cx="8772480" cy="249084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285840" y="1434240"/>
            <a:ext cx="857232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омочь специалистам, задействуя процессы рефлек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d46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выработать эффективные стратегии решения рабочих зада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d46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овысить их квалификацию и качество оказываемой помо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d46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обеспечить согласованность работы в полипрофессиональной коман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d46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способствовать росту удовлетворённости профессиональной деятель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d46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рофилактика и снижение эмоционального выгорания и профессионального б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285840" y="3986640"/>
            <a:ext cx="85723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Предмет рефлекси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взаимодействие работников с пациентами, коллегами и начальств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роцессы внутри организации, их связь с более широкими контекстами –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с процессами в обществе, семьях пациентов, сфере здравоохра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285840" y="5661000"/>
            <a:ext cx="85723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Результат рефлексивного анализ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онимание неосознаваемых ранее чувств, идей, связ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Скругленный прямоугольник 7"/>
          <p:cNvSpPr/>
          <p:nvPr/>
        </p:nvSpPr>
        <p:spPr>
          <a:xfrm>
            <a:off x="162000" y="3409920"/>
            <a:ext cx="8772480" cy="205740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2"/>
          <p:cNvSpPr/>
          <p:nvPr/>
        </p:nvSpPr>
        <p:spPr>
          <a:xfrm>
            <a:off x="185760" y="182520"/>
            <a:ext cx="8786880" cy="106884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  <a:ea typeface="Calibri"/>
              </a:rPr>
              <a:t>Групповые формы психологической раб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Балинтовская груп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Скругленный прямоугольник 3"/>
          <p:cNvSpPr/>
          <p:nvPr/>
        </p:nvSpPr>
        <p:spPr>
          <a:xfrm>
            <a:off x="142920" y="1357200"/>
            <a:ext cx="8772480" cy="192888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285840" y="1313280"/>
            <a:ext cx="8572320" cy="27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Ц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ed46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Calibri"/>
              </a:rPr>
              <a:t>улучшение понимания проблем пациента и сложностей взаимодействия с ним в процессе его ле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ed46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овышение компетентности в профессиональном межличностном общ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ed46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сихопрофилактика  бремени, эмоционального выгорания, стресса на рабочем месте, основанных на проработке неудачного опыта работы с больным при  поддержке колле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ed46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ed46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285840" y="3524040"/>
            <a:ext cx="857232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Задач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ed46c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f2f2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Calibri"/>
              </a:rPr>
              <a:t>развитие навыков межличностных взаимоотнош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ed46c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Calibri"/>
              </a:rPr>
              <a:t>осознание собственных чув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ed46c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Calibri"/>
              </a:rPr>
              <a:t>умение контролировать и использовать в работе собственные чув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осознание личностных паттернов поведения, мешающих профессиональным отношениям врача с пациен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Скругленный прямоугольник 9"/>
          <p:cNvSpPr/>
          <p:nvPr/>
        </p:nvSpPr>
        <p:spPr>
          <a:xfrm>
            <a:off x="162000" y="5613480"/>
            <a:ext cx="8772480" cy="98748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"/>
          <p:cNvSpPr/>
          <p:nvPr/>
        </p:nvSpPr>
        <p:spPr>
          <a:xfrm>
            <a:off x="285840" y="5480280"/>
            <a:ext cx="85723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Объекты работ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коммуникация, эмоции, чувства, иррациональные идеи и установ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сихологические защиты, ожидания, смысл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Скругленный прямоугольник 7"/>
          <p:cNvSpPr/>
          <p:nvPr/>
        </p:nvSpPr>
        <p:spPr>
          <a:xfrm>
            <a:off x="142920" y="2927520"/>
            <a:ext cx="8772480" cy="276192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2"/>
          <p:cNvSpPr/>
          <p:nvPr/>
        </p:nvSpPr>
        <p:spPr>
          <a:xfrm>
            <a:off x="185760" y="115920"/>
            <a:ext cx="8786880" cy="131292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  <a:ea typeface="Calibri"/>
              </a:rPr>
              <a:t>Групповые формы психологической раб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Тренинг по снижению профессионального бремени и повышению стрессоустойчив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Скругленный прямоугольник 3"/>
          <p:cNvSpPr/>
          <p:nvPr/>
        </p:nvSpPr>
        <p:spPr>
          <a:xfrm>
            <a:off x="142920" y="1671480"/>
            <a:ext cx="8772480" cy="87156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"/>
          <p:cNvSpPr/>
          <p:nvPr/>
        </p:nvSpPr>
        <p:spPr>
          <a:xfrm>
            <a:off x="285840" y="164664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Цель: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Calibri"/>
              </a:rPr>
              <a:t>овладение навыками самовосстановления и саморегуляции для повышения </a:t>
            </a:r>
            <a:br>
              <a:rPr sz="1800"/>
            </a:b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Calibri"/>
              </a:rPr>
              <a:t>           стрессоустойчивости к профессиональным трудностям и снижения бремени </a:t>
            </a:r>
            <a:br>
              <a:rPr sz="1800"/>
            </a:b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Calibri"/>
              </a:rPr>
              <a:t>           при оказании помощи психически боль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"/>
          <p:cNvSpPr/>
          <p:nvPr/>
        </p:nvSpPr>
        <p:spPr>
          <a:xfrm>
            <a:off x="266760" y="2850480"/>
            <a:ext cx="857232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Задач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осознать источники профессионального стр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развить адаптивные реакции и стратегии совла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олучить опыт эмоциональной рег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развить навыки осознания собственных эмоциональных состояний, в частност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чувства гн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оиск и формирование ресурсов гармоничного эмоционального 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обучение участников техникам самовосстановления и саморегуляции физического и  эмоционального  состоя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Скругленный прямоугольник 7"/>
          <p:cNvSpPr/>
          <p:nvPr/>
        </p:nvSpPr>
        <p:spPr>
          <a:xfrm>
            <a:off x="285840" y="2714760"/>
            <a:ext cx="4143240" cy="3547800"/>
          </a:xfrm>
          <a:prstGeom prst="roundRect">
            <a:avLst>
              <a:gd name="adj" fmla="val 4926"/>
            </a:avLst>
          </a:prstGeom>
          <a:solidFill>
            <a:srgbClr val="d6ec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f75"/>
                </a:solidFill>
                <a:latin typeface="Arial"/>
              </a:rPr>
              <a:t>Опросник выраженности психопатологической симптоматики SCL-90-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f75"/>
                </a:solidFill>
                <a:latin typeface="Arial"/>
              </a:rPr>
              <a:t>Л. Дерогатиса (1974 г.), адаптированный Н.В.Тарабри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f75"/>
                </a:solidFill>
                <a:latin typeface="Arial"/>
              </a:rPr>
              <a:t>Опросник </a:t>
            </a:r>
            <a:r>
              <a:rPr b="0" lang="en-US" sz="1800" spc="-1" strike="noStrike">
                <a:solidFill>
                  <a:srgbClr val="003f75"/>
                </a:solidFill>
                <a:latin typeface="Arial"/>
              </a:rPr>
              <a:t>IIP</a:t>
            </a:r>
            <a:r>
              <a:rPr b="0" lang="ru-RU" sz="1800" spc="-1" strike="noStrike">
                <a:solidFill>
                  <a:srgbClr val="003f75"/>
                </a:solidFill>
                <a:latin typeface="Arial"/>
              </a:rPr>
              <a:t>-64</a:t>
            </a:r>
            <a:br>
              <a:rPr sz="1800"/>
            </a:br>
            <a:r>
              <a:rPr b="0" lang="ru-RU" sz="1800" spc="-1" strike="noStrike">
                <a:solidFill>
                  <a:srgbClr val="003f75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3f75"/>
                </a:solidFill>
                <a:latin typeface="Arial"/>
              </a:rPr>
              <a:t>Inventory of Interpersonal Problems</a:t>
            </a:r>
            <a:r>
              <a:rPr b="0" lang="ru-RU" sz="1800" spc="-1" strike="noStrike">
                <a:solidFill>
                  <a:srgbClr val="003f75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f75"/>
                </a:solidFill>
                <a:latin typeface="Arial"/>
              </a:rPr>
              <a:t>Опросник по удовлетворенности участием в групповой рабо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2"/>
          <p:cNvSpPr/>
          <p:nvPr/>
        </p:nvSpPr>
        <p:spPr>
          <a:xfrm>
            <a:off x="185760" y="115920"/>
            <a:ext cx="8786880" cy="106884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  <a:ea typeface="Calibri"/>
              </a:rPr>
              <a:t>Групповые формы психологической раб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оценка эффектив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кругленный прямоугольник 3"/>
          <p:cNvSpPr/>
          <p:nvPr/>
        </p:nvSpPr>
        <p:spPr>
          <a:xfrm>
            <a:off x="276120" y="1509840"/>
            <a:ext cx="4143600" cy="923760"/>
          </a:xfrm>
          <a:prstGeom prst="roundRect">
            <a:avLst>
              <a:gd name="adj" fmla="val 4926"/>
            </a:avLst>
          </a:prstGeom>
          <a:solidFill>
            <a:srgbClr val="006699"/>
          </a:solidFill>
          <a:ln w="1908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1 медсестр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тренинг навык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Скругленный прямоугольник 6"/>
          <p:cNvSpPr/>
          <p:nvPr/>
        </p:nvSpPr>
        <p:spPr>
          <a:xfrm>
            <a:off x="4776840" y="1509840"/>
            <a:ext cx="4143240" cy="923760"/>
          </a:xfrm>
          <a:prstGeom prst="roundRect">
            <a:avLst>
              <a:gd name="adj" fmla="val 4926"/>
            </a:avLst>
          </a:prstGeom>
          <a:solidFill>
            <a:srgbClr val="006699"/>
          </a:solidFill>
          <a:ln w="1908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2 психиатра и психол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Балинтовская групп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-аналитические супервизи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кругленный прямоугольник 8"/>
          <p:cNvSpPr/>
          <p:nvPr/>
        </p:nvSpPr>
        <p:spPr>
          <a:xfrm>
            <a:off x="4786200" y="2714760"/>
            <a:ext cx="4143600" cy="3557520"/>
          </a:xfrm>
          <a:prstGeom prst="roundRect">
            <a:avLst>
              <a:gd name="adj" fmla="val 4926"/>
            </a:avLst>
          </a:prstGeom>
          <a:solidFill>
            <a:srgbClr val="d6ec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f75"/>
                </a:solidFill>
                <a:latin typeface="Arial"/>
              </a:rPr>
              <a:t>Опросник </a:t>
            </a:r>
            <a:r>
              <a:rPr b="0" lang="en-US" sz="1800" spc="-1" strike="noStrike">
                <a:solidFill>
                  <a:srgbClr val="003f75"/>
                </a:solidFill>
                <a:latin typeface="Arial"/>
              </a:rPr>
              <a:t>IIP</a:t>
            </a:r>
            <a:r>
              <a:rPr b="0" lang="ru-RU" sz="1800" spc="-1" strike="noStrike">
                <a:solidFill>
                  <a:srgbClr val="003f75"/>
                </a:solidFill>
                <a:latin typeface="Arial"/>
              </a:rPr>
              <a:t>-64 (</a:t>
            </a:r>
            <a:r>
              <a:rPr b="0" lang="en-US" sz="1800" spc="-1" strike="noStrike">
                <a:solidFill>
                  <a:srgbClr val="003f75"/>
                </a:solidFill>
                <a:latin typeface="Arial"/>
              </a:rPr>
              <a:t>Inventory of Interpersonal Problems</a:t>
            </a:r>
            <a:r>
              <a:rPr b="0" lang="ru-RU" sz="1800" spc="-1" strike="noStrike">
                <a:solidFill>
                  <a:srgbClr val="003f75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f75"/>
                </a:solidFill>
                <a:latin typeface="Arial"/>
              </a:rPr>
              <a:t>Опросник по удовлетворенности участием в групповой рабо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Скругленный прямоугольник 12"/>
          <p:cNvSpPr/>
          <p:nvPr/>
        </p:nvSpPr>
        <p:spPr>
          <a:xfrm>
            <a:off x="6195960" y="1071720"/>
            <a:ext cx="2714760" cy="114300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6195960" y="101880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Индексы по опроснику </a:t>
            </a:r>
            <a:r>
              <a:rPr b="0" lang="en-US" sz="1800" spc="-1" strike="noStrike">
                <a:solidFill>
                  <a:srgbClr val="99ffcc"/>
                </a:solidFill>
                <a:latin typeface="Calibri"/>
                <a:ea typeface="Calibri"/>
              </a:rPr>
              <a:t>SCL-90-R </a:t>
            </a:r>
            <a:r>
              <a:rPr b="0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у медсестер до и после вмешательства (балл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4"/>
          <p:cNvSpPr/>
          <p:nvPr/>
        </p:nvSpPr>
        <p:spPr>
          <a:xfrm>
            <a:off x="185760" y="115920"/>
            <a:ext cx="8786880" cy="58140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  <a:ea typeface="Calibri"/>
              </a:rPr>
              <a:t>Тренинг навыков: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оценка эффектив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50840" y="1859040"/>
          <a:ext cx="5773680" cy="4741920"/>
        </p:xfrm>
        <a:graphic>
          <a:graphicData uri="http://schemas.openxmlformats.org/drawingml/2006/table">
            <a:tbl>
              <a:tblPr/>
              <a:tblGrid>
                <a:gridCol w="1878120"/>
                <a:gridCol w="1828800"/>
                <a:gridCol w="2066760"/>
              </a:tblGrid>
              <a:tr h="839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6ecff"/>
                          </a:solidFill>
                          <a:latin typeface="Calibri"/>
                          <a:ea typeface="Calibri"/>
                        </a:rPr>
                        <a:t>Наименование шка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3f75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6ecff"/>
                          </a:solidFill>
                          <a:latin typeface="Calibri"/>
                          <a:ea typeface="Calibri"/>
                        </a:rPr>
                        <a:t>Показатели по шкалам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d6ecff"/>
                          </a:solidFill>
                          <a:latin typeface="Calibri"/>
                          <a:ea typeface="Calibri"/>
                        </a:rPr>
                        <a:t>до вмеш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3f75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6ecff"/>
                          </a:solidFill>
                          <a:latin typeface="Calibri"/>
                          <a:ea typeface="Calibri"/>
                        </a:rPr>
                        <a:t>Показатели по шкалам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d6ecff"/>
                          </a:solidFill>
                          <a:latin typeface="Calibri"/>
                          <a:ea typeface="Calibri"/>
                        </a:rPr>
                        <a:t>после вмеш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3f75">
                        <a:alpha val="51000"/>
                      </a:srgbClr>
                    </a:solidFill>
                  </a:tcPr>
                </a:tc>
              </a:tr>
              <a:tr h="244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оматиз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бсессивность, компульсив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48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ежличностная сензитив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244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епрес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ревож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244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раждеб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48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Фобическая тревож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48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аранойяльные тенден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244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сихотиз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48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ополнительн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БЩАЯ СУМ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,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,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26" name="Скругленный прямоугольник 9"/>
          <p:cNvSpPr/>
          <p:nvPr/>
        </p:nvSpPr>
        <p:spPr>
          <a:xfrm>
            <a:off x="142920" y="915840"/>
            <a:ext cx="5786280" cy="87156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142920" y="874800"/>
            <a:ext cx="57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Показатели актуального психологического симптоматического статуса у медицинских сестер </a:t>
            </a:r>
            <a:br>
              <a:rPr sz="1800"/>
            </a:br>
            <a:r>
              <a:rPr b="0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до и после тренинга (баллы, </a:t>
            </a:r>
            <a:r>
              <a:rPr b="0" lang="en-US" sz="1800" spc="-1" strike="noStrike">
                <a:solidFill>
                  <a:srgbClr val="99ffcc"/>
                </a:solidFill>
                <a:latin typeface="Calibri"/>
                <a:ea typeface="Calibri"/>
              </a:rPr>
              <a:t>SCL-90-R</a:t>
            </a:r>
            <a:r>
              <a:rPr b="0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195960" y="2305080"/>
          <a:ext cx="2786040" cy="3998880"/>
        </p:xfrm>
        <a:graphic>
          <a:graphicData uri="http://schemas.openxmlformats.org/drawingml/2006/table">
            <a:tbl>
              <a:tblPr/>
              <a:tblGrid>
                <a:gridCol w="966960"/>
                <a:gridCol w="625320"/>
                <a:gridCol w="550800"/>
                <a:gridCol w="642960"/>
              </a:tblGrid>
              <a:tr h="85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6ecff"/>
                          </a:solidFill>
                          <a:latin typeface="Calibri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d5a50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ecff"/>
                          </a:solidFill>
                          <a:latin typeface="Calibri"/>
                          <a:ea typeface="Times-Italic"/>
                        </a:rPr>
                        <a:t>G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d5a50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ecff"/>
                          </a:solidFill>
                          <a:latin typeface="Calibri"/>
                          <a:ea typeface="Times-Italic"/>
                        </a:rPr>
                        <a:t>P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d5a50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ecff"/>
                          </a:solidFill>
                          <a:latin typeface="Calibri"/>
                          <a:ea typeface="Times-Italic"/>
                        </a:rPr>
                        <a:t>PSD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d5a50">
                        <a:alpha val="51000"/>
                      </a:srgbClr>
                    </a:solidFill>
                  </a:tcPr>
                </a:tc>
              </a:tr>
              <a:tr h="157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b050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b050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b050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,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b050">
                        <a:alpha val="51000"/>
                      </a:srgbClr>
                    </a:solidFill>
                  </a:tcPr>
                </a:tc>
              </a:tr>
              <a:tr h="157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С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b050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b050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b050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,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b050">
                        <a:alpha val="51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6"/>
          <p:cNvSpPr/>
          <p:nvPr/>
        </p:nvSpPr>
        <p:spPr>
          <a:xfrm>
            <a:off x="185760" y="115920"/>
            <a:ext cx="8786880" cy="106884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  <a:ea typeface="Calibri"/>
              </a:rPr>
              <a:t>Показатели дистресса у медицинских сестер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Calibri"/>
                <a:ea typeface="Calibri"/>
              </a:rPr>
              <a:t>до и после тренинга (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  <a:ea typeface="Calibri"/>
              </a:rPr>
              <a:t>IIP-6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Диаграмма 4" descr=""/>
          <p:cNvPicPr/>
          <p:nvPr/>
        </p:nvPicPr>
        <p:blipFill>
          <a:blip r:embed="rId1"/>
          <a:stretch/>
        </p:blipFill>
        <p:spPr>
          <a:xfrm>
            <a:off x="738360" y="1444680"/>
            <a:ext cx="777708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Диаграмма 5" descr=""/>
          <p:cNvPicPr/>
          <p:nvPr/>
        </p:nvPicPr>
        <p:blipFill>
          <a:blip r:embed="rId1"/>
          <a:stretch/>
        </p:blipFill>
        <p:spPr>
          <a:xfrm>
            <a:off x="914400" y="1274760"/>
            <a:ext cx="7381800" cy="545472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6"/>
          <p:cNvSpPr/>
          <p:nvPr/>
        </p:nvSpPr>
        <p:spPr>
          <a:xfrm>
            <a:off x="185760" y="100080"/>
            <a:ext cx="8786880" cy="106884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  <a:ea typeface="Calibri"/>
              </a:rPr>
              <a:t>Показатели дистресса у врачей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  <a:ea typeface="Calibri"/>
              </a:rPr>
              <a:t> (IIP-64) </a:t>
            </a:r>
            <a:r>
              <a:rPr b="0" lang="ru-RU" sz="3200" spc="-1" strike="noStrike">
                <a:solidFill>
                  <a:srgbClr val="ffff99"/>
                </a:solidFill>
                <a:latin typeface="Calibri"/>
                <a:ea typeface="Calibri"/>
              </a:rPr>
              <a:t>до и после участия в Балинтовской груп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2"/>
          <p:cNvSpPr/>
          <p:nvPr/>
        </p:nvSpPr>
        <p:spPr>
          <a:xfrm>
            <a:off x="185760" y="100080"/>
            <a:ext cx="8786880" cy="106884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  <a:ea typeface="Calibri"/>
              </a:rPr>
              <a:t>Оценка удовлетворенности работой Балинтовской груп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4"/>
          <p:cNvSpPr/>
          <p:nvPr/>
        </p:nvSpPr>
        <p:spPr>
          <a:xfrm>
            <a:off x="938160" y="1442880"/>
            <a:ext cx="2143080" cy="2786400"/>
          </a:xfrm>
          <a:prstGeom prst="rect">
            <a:avLst/>
          </a:prstGeom>
          <a:solidFill>
            <a:srgbClr val="006699">
              <a:alpha val="43000"/>
            </a:srgbClr>
          </a:solidFill>
          <a:ln w="19080">
            <a:solidFill>
              <a:srgbClr val="0082a5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или продолжить работу в длительной Балинтовской групп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83,3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5"/>
          <p:cNvSpPr/>
          <p:nvPr/>
        </p:nvSpPr>
        <p:spPr>
          <a:xfrm>
            <a:off x="3562200" y="1433520"/>
            <a:ext cx="2143440" cy="2786040"/>
          </a:xfrm>
          <a:prstGeom prst="rect">
            <a:avLst/>
          </a:prstGeom>
          <a:solidFill>
            <a:srgbClr val="006699">
              <a:alpha val="43000"/>
            </a:srgbClr>
          </a:solidFill>
          <a:ln w="19080">
            <a:solidFill>
              <a:srgbClr val="0082a5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довлетворены работой в Балинтовской групп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75,0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6"/>
          <p:cNvSpPr/>
          <p:nvPr/>
        </p:nvSpPr>
        <p:spPr>
          <a:xfrm>
            <a:off x="6153120" y="1428840"/>
            <a:ext cx="2143080" cy="2786040"/>
          </a:xfrm>
          <a:prstGeom prst="rect">
            <a:avLst/>
          </a:prstGeom>
          <a:solidFill>
            <a:srgbClr val="006699">
              <a:alpha val="43000"/>
            </a:srgbClr>
          </a:solidFill>
          <a:ln w="19080">
            <a:solidFill>
              <a:srgbClr val="0082a5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или свои задачи в процессе работы в Балинтовской групп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75,0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Скругленный прямоугольник 7"/>
          <p:cNvSpPr/>
          <p:nvPr/>
        </p:nvSpPr>
        <p:spPr>
          <a:xfrm>
            <a:off x="142920" y="4643280"/>
            <a:ext cx="8772480" cy="215748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324000" y="4476960"/>
            <a:ext cx="8515080" cy="21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Решили задачи (% участников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овышение профессионального уровня          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  <a:ea typeface="Calibri"/>
              </a:rPr>
              <a:t>91,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достижение лучшего понимания пациентов  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  <a:ea typeface="Calibri"/>
              </a:rPr>
              <a:t>66,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улучшение эмоционального состояния            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  <a:ea typeface="Calibri"/>
              </a:rPr>
              <a:t>83,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отреагирование чувств                                          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  <a:ea typeface="Calibri"/>
              </a:rPr>
              <a:t>75,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олучили поддержку и понимание                    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  <a:ea typeface="Calibri"/>
              </a:rPr>
              <a:t>91,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Скругленный прямоугольник 3"/>
          <p:cNvSpPr/>
          <p:nvPr/>
        </p:nvSpPr>
        <p:spPr>
          <a:xfrm>
            <a:off x="142920" y="857160"/>
            <a:ext cx="8772480" cy="586764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500040" y="1214280"/>
            <a:ext cx="846468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cc"/>
                </a:solidFill>
                <a:latin typeface="Calibri"/>
                <a:ea typeface="Calibri"/>
              </a:rPr>
              <a:t>Необходима  комплексная система профилактики стресса, профессионального бремени и выгорания медицинск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cc"/>
                </a:solidFill>
                <a:latin typeface="Calibri"/>
                <a:ea typeface="Calibri"/>
              </a:rPr>
              <a:t>и иного персонала психиатрических стационар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eb8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b80a"/>
                </a:solidFill>
                <a:latin typeface="Calibri"/>
                <a:ea typeface="Calibri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оптимизация рабочего процес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eb8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b80a"/>
                </a:solidFill>
                <a:latin typeface="Calibri"/>
                <a:ea typeface="Calibri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фессиональная поддержка (Балинтовская группа, супервиз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eb8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b80a"/>
                </a:solidFill>
                <a:latin typeface="Calibri"/>
                <a:ea typeface="Calibri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психологическая поддержка (индивидуальная, групповая, тренинг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eb8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b80a"/>
                </a:solidFill>
                <a:latin typeface="Calibri"/>
                <a:ea typeface="Calibri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информационная поддерж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eb8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b80a"/>
                </a:solidFill>
                <a:latin typeface="Calibri"/>
                <a:ea typeface="Calibri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создание специальных групп для диагностики профессиональ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feb80a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бремени, стресса, выгорания, анализа их причин,  разрабо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необходимых профилактических ме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2"/>
          <p:cNvSpPr/>
          <p:nvPr/>
        </p:nvSpPr>
        <p:spPr>
          <a:xfrm>
            <a:off x="185760" y="90360"/>
            <a:ext cx="8786880" cy="58140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  <a:ea typeface="Calibri"/>
              </a:rPr>
              <a:t>Заклю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4"/>
          <p:cNvSpPr/>
          <p:nvPr/>
        </p:nvSpPr>
        <p:spPr>
          <a:xfrm>
            <a:off x="1143000" y="2357280"/>
            <a:ext cx="600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99"/>
                </a:solidFill>
                <a:latin typeface="Calibri"/>
                <a:ea typeface="Calibri"/>
              </a:rPr>
              <a:t>БЛАГОДАРЮ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99"/>
                </a:solidFill>
                <a:latin typeface="Calibri"/>
                <a:ea typeface="Calibri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Скругленный прямоугольник 3"/>
          <p:cNvSpPr/>
          <p:nvPr/>
        </p:nvSpPr>
        <p:spPr>
          <a:xfrm>
            <a:off x="179280" y="2276640"/>
            <a:ext cx="8772480" cy="444816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500040" y="2349360"/>
            <a:ext cx="84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468360" y="907920"/>
            <a:ext cx="8424720" cy="362844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  <a:ea typeface="Calibri"/>
              </a:rPr>
              <a:t>Цель: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разработка организационно-методических основ проведения групповой психологической работы с персоналом психиатрических  стационаров, внедрение этой работы в практическую деятельность, оценка ее эффектив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Скругленный прямоугольник 8"/>
          <p:cNvSpPr/>
          <p:nvPr/>
        </p:nvSpPr>
        <p:spPr>
          <a:xfrm>
            <a:off x="4643280" y="1000080"/>
            <a:ext cx="4343400" cy="5581800"/>
          </a:xfrm>
          <a:custGeom>
            <a:avLst/>
            <a:gdLst>
              <a:gd name="textAreaLeft" fmla="*/ 62640 w 4343400"/>
              <a:gd name="textAreaRight" fmla="*/ 4280760 w 4343400"/>
              <a:gd name="textAreaTop" fmla="*/ 62640 h 5581800"/>
              <a:gd name="textAreaBottom" fmla="*/ 5519160 h 5581800"/>
            </a:gdLst>
            <a:ahLst/>
            <a:rect l="textAreaLeft" t="textAreaTop" r="textAreaRight" b="textAreaBottom"/>
            <a:pathLst>
              <a:path w="21600" h="27758">
                <a:moveTo>
                  <a:pt x="1064" y="0"/>
                </a:moveTo>
                <a:arcTo wR="1064" hR="1064" stAng="16200000" swAng="-5400000"/>
                <a:lnTo>
                  <a:pt x="0" y="26694"/>
                </a:lnTo>
                <a:arcTo wR="1064" hR="1064" stAng="10800000" swAng="-5400000"/>
                <a:lnTo>
                  <a:pt x="20536" y="27758"/>
                </a:lnTo>
                <a:arcTo wR="1064" hR="1064" stAng="5400000" swAng="-5400000"/>
                <a:lnTo>
                  <a:pt x="21600" y="1064"/>
                </a:lnTo>
                <a:arcTo wR="1064" hR="1064" stAng="0" swAng="-5400000"/>
                <a:close/>
              </a:path>
            </a:pathLst>
          </a:cu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185760" y="195120"/>
            <a:ext cx="8786880" cy="64260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Calibri"/>
                <a:ea typeface="Calibri"/>
              </a:rPr>
              <a:t>Объекты исслед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Группа 6"/>
          <p:cNvGrpSpPr/>
          <p:nvPr/>
        </p:nvGrpSpPr>
        <p:grpSpPr>
          <a:xfrm>
            <a:off x="162000" y="990720"/>
            <a:ext cx="4343400" cy="5581440"/>
            <a:chOff x="162000" y="990720"/>
            <a:chExt cx="4343400" cy="5581440"/>
          </a:xfrm>
        </p:grpSpPr>
        <p:sp>
          <p:nvSpPr>
            <p:cNvPr id="263" name="Скругленный прямоугольник 5"/>
            <p:cNvSpPr/>
            <p:nvPr/>
          </p:nvSpPr>
          <p:spPr>
            <a:xfrm>
              <a:off x="162000" y="990720"/>
              <a:ext cx="4343400" cy="5581440"/>
            </a:xfrm>
            <a:custGeom>
              <a:avLst/>
              <a:gdLst>
                <a:gd name="textAreaLeft" fmla="*/ 62640 w 4343400"/>
                <a:gd name="textAreaRight" fmla="*/ 4280760 w 4343400"/>
                <a:gd name="textAreaTop" fmla="*/ 62640 h 5581440"/>
                <a:gd name="textAreaBottom" fmla="*/ 5518800 h 5581440"/>
              </a:gdLst>
              <a:ahLst/>
              <a:rect l="textAreaLeft" t="textAreaTop" r="textAreaRight" b="textAreaBottom"/>
              <a:pathLst>
                <a:path w="21600" h="27756">
                  <a:moveTo>
                    <a:pt x="1064" y="0"/>
                  </a:moveTo>
                  <a:arcTo wR="1064" hR="1064" stAng="16200000" swAng="-5400000"/>
                  <a:lnTo>
                    <a:pt x="0" y="26692"/>
                  </a:lnTo>
                  <a:arcTo wR="1064" hR="1064" stAng="10800000" swAng="-5400000"/>
                  <a:lnTo>
                    <a:pt x="20536" y="27756"/>
                  </a:lnTo>
                  <a:arcTo wR="1064" hR="1064" stAng="5400000" swAng="-5400000"/>
                  <a:lnTo>
                    <a:pt x="21600" y="1064"/>
                  </a:lnTo>
                  <a:arcTo wR="1064" hR="1064" stAng="0" swAng="-5400000"/>
                  <a:close/>
                </a:path>
              </a:pathLst>
            </a:custGeom>
            <a:solidFill>
              <a:srgbClr val="3b444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Схема 3" descr=""/>
            <p:cNvPicPr/>
            <p:nvPr/>
          </p:nvPicPr>
          <p:blipFill>
            <a:blip r:embed="rId1"/>
            <a:stretch/>
          </p:blipFill>
          <p:spPr>
            <a:xfrm>
              <a:off x="207000" y="1127880"/>
              <a:ext cx="4297680" cy="524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Прямоугольник 4"/>
          <p:cNvSpPr/>
          <p:nvPr/>
        </p:nvSpPr>
        <p:spPr>
          <a:xfrm>
            <a:off x="5010840" y="112392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af7f1"/>
                </a:solidFill>
                <a:latin typeface="Calibri"/>
                <a:ea typeface="Calibri"/>
              </a:rPr>
              <a:t>Средний возраст – 38,7±10,3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857840" y="2286000"/>
          <a:ext cx="4000320" cy="307188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</a:tblGrid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Стаж работы в психиатр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3f75">
                        <a:alpha val="5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3f75">
                        <a:alpha val="51000"/>
                      </a:srgbClr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ее 1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1 до 5 л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6 до 10 л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ее 10 л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Скругленный прямоугольник 7"/>
          <p:cNvSpPr/>
          <p:nvPr/>
        </p:nvSpPr>
        <p:spPr>
          <a:xfrm>
            <a:off x="204840" y="6143760"/>
            <a:ext cx="8772480" cy="66168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Скругленный прямоугольник 6"/>
          <p:cNvSpPr/>
          <p:nvPr/>
        </p:nvSpPr>
        <p:spPr>
          <a:xfrm>
            <a:off x="214200" y="2438280"/>
            <a:ext cx="8772480" cy="363852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Скругленный прямоугольник 5"/>
          <p:cNvSpPr/>
          <p:nvPr/>
        </p:nvSpPr>
        <p:spPr>
          <a:xfrm>
            <a:off x="214200" y="1285920"/>
            <a:ext cx="8772480" cy="104760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2"/>
          <p:cNvSpPr/>
          <p:nvPr/>
        </p:nvSpPr>
        <p:spPr>
          <a:xfrm>
            <a:off x="357120" y="1266840"/>
            <a:ext cx="842976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cc"/>
                </a:solidFill>
                <a:latin typeface="Calibri"/>
                <a:ea typeface="Calibri"/>
              </a:rPr>
              <a:t>Опросник ВОЗ, 199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ecff"/>
                </a:solidFill>
                <a:latin typeface="Calibri"/>
                <a:ea typeface="Calibri"/>
              </a:rPr>
              <a:t>позволяет оценить последствия работы в психиатрических</a:t>
            </a:r>
            <a:r>
              <a:rPr b="0" lang="en-US" sz="2000" spc="-1" strike="noStrike">
                <a:solidFill>
                  <a:srgbClr val="d6ecff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d6ecff"/>
                </a:solidFill>
                <a:latin typeface="Calibri"/>
                <a:ea typeface="Calibri"/>
              </a:rPr>
              <a:t>учреждени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ecff"/>
                </a:solidFill>
                <a:latin typeface="Calibri"/>
                <a:ea typeface="Calibri"/>
              </a:rPr>
              <a:t>включает 46 вопросов о разных видах тягот у медицинского персон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"/>
          <p:cNvSpPr/>
          <p:nvPr/>
        </p:nvSpPr>
        <p:spPr>
          <a:xfrm>
            <a:off x="366840" y="2696400"/>
            <a:ext cx="85262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Установлено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Calibri"/>
                <a:ea typeface="Calibri"/>
              </a:rPr>
              <a:t>персонал психиатрических стационаров</a:t>
            </a:r>
            <a:r>
              <a:rPr b="0" lang="en-US" sz="1600" spc="-1" strike="noStrike">
                <a:solidFill>
                  <a:srgbClr val="ffffcc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ffffcc"/>
                </a:solidFill>
                <a:latin typeface="Calibri"/>
                <a:ea typeface="Calibri"/>
              </a:rPr>
              <a:t>испытывал чувство эмоциональной напряжен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Calibri"/>
                <a:ea typeface="Calibri"/>
              </a:rPr>
              <a:t>персонал психиатрических стационаров</a:t>
            </a:r>
            <a:r>
              <a:rPr b="0" lang="en-US" sz="1600" spc="-1" strike="noStrike">
                <a:solidFill>
                  <a:srgbClr val="ffffcc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ffffcc"/>
                </a:solidFill>
                <a:latin typeface="Calibri"/>
                <a:ea typeface="Calibri"/>
              </a:rPr>
              <a:t>испытывал чувство в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Calibri"/>
                <a:ea typeface="Calibri"/>
              </a:rPr>
              <a:t>персонал сообщал, что требовательные пациенты подавляю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Calibri"/>
                <a:ea typeface="Calibri"/>
              </a:rPr>
              <a:t>сотрудники чувствовали себя физически уставшими к концу рабочего дн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Calibri"/>
                <a:ea typeface="Calibri"/>
              </a:rPr>
              <a:t>сотрудники считали, что работа оказывает влияние на их физическое здоровье,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Calibri"/>
                <a:ea typeface="Calibri"/>
              </a:rPr>
              <a:t>персонал сообщал, что выбрав другую профессию они были бы эмоционально более здоров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Calibri"/>
                <a:ea typeface="Calibri"/>
              </a:rPr>
              <a:t>сотрудники указывали на тяготы опасения нападения со стороны психически боль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Calibri"/>
                <a:ea typeface="Calibri"/>
              </a:rPr>
              <a:t>медицинские работники продолжали думать о проблемах пациентов</a:t>
            </a:r>
            <a:r>
              <a:rPr b="0" lang="en-US" sz="1600" spc="-1" strike="noStrike">
                <a:solidFill>
                  <a:srgbClr val="ffffcc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ffffcc"/>
                </a:solidFill>
                <a:latin typeface="Calibri"/>
                <a:ea typeface="Calibri"/>
              </a:rPr>
              <a:t>даже вне р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Calibri"/>
                <a:ea typeface="Calibri"/>
              </a:rPr>
              <a:t>медицинские работники считали, что избранный ими род профессиональных занятий влияет на стабильность семейного поло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4"/>
          <p:cNvSpPr/>
          <p:nvPr/>
        </p:nvSpPr>
        <p:spPr>
          <a:xfrm>
            <a:off x="185760" y="90360"/>
            <a:ext cx="8786880" cy="106884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  <a:ea typeface="Calibri"/>
              </a:rPr>
              <a:t>Оценка бремени работников психиатрических стациона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8"/>
          <p:cNvSpPr/>
          <p:nvPr/>
        </p:nvSpPr>
        <p:spPr>
          <a:xfrm>
            <a:off x="285840" y="595008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ecff"/>
                </a:solidFill>
                <a:latin typeface="Calibri"/>
                <a:ea typeface="Calibri"/>
              </a:rPr>
              <a:t>Результаты показали, что в зависимости от вопроса о тех или иных видах тягот </a:t>
            </a:r>
            <a:r>
              <a:rPr b="1" lang="ru-RU" sz="1600" spc="-1" strike="noStrike">
                <a:solidFill>
                  <a:srgbClr val="99ffcc"/>
                </a:solidFill>
                <a:latin typeface="Calibri"/>
                <a:ea typeface="Calibri"/>
              </a:rPr>
              <a:t>от 8% до 20% врачей</a:t>
            </a:r>
            <a:r>
              <a:rPr b="1" lang="ru-RU" sz="1600" spc="-1" strike="noStrike">
                <a:solidFill>
                  <a:srgbClr val="d6ecff"/>
                </a:solidFill>
                <a:latin typeface="Calibri"/>
                <a:ea typeface="Calibri"/>
              </a:rPr>
              <a:t> и </a:t>
            </a:r>
            <a:r>
              <a:rPr b="1" lang="ru-RU" sz="1600" spc="-1" strike="noStrike">
                <a:solidFill>
                  <a:srgbClr val="99ffcc"/>
                </a:solidFill>
                <a:latin typeface="Calibri"/>
                <a:ea typeface="Calibri"/>
              </a:rPr>
              <a:t>от 10% до 30% медсестер </a:t>
            </a:r>
            <a:r>
              <a:rPr b="1" lang="ru-RU" sz="1600" spc="-1" strike="noStrike">
                <a:solidFill>
                  <a:srgbClr val="d6ecff"/>
                </a:solidFill>
                <a:latin typeface="Calibri"/>
                <a:ea typeface="Calibri"/>
              </a:rPr>
              <a:t>выбирали максимальную степень их выражен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2"/>
          <p:cNvSpPr/>
          <p:nvPr/>
        </p:nvSpPr>
        <p:spPr>
          <a:xfrm>
            <a:off x="142920" y="3552840"/>
            <a:ext cx="8786880" cy="180036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cc"/>
                </a:solidFill>
                <a:latin typeface="Calibri"/>
                <a:ea typeface="Calibri"/>
              </a:rPr>
              <a:t>46,6% врачей </a:t>
            </a:r>
            <a:r>
              <a:rPr b="0" lang="ru-RU" sz="2800" spc="-1" strike="noStrike">
                <a:solidFill>
                  <a:srgbClr val="ffffcc"/>
                </a:solidFill>
                <a:latin typeface="Calibri"/>
                <a:ea typeface="Calibri"/>
              </a:rPr>
              <a:t>и </a:t>
            </a:r>
            <a:r>
              <a:rPr b="0" lang="ru-RU" sz="2800" spc="-1" strike="noStrike">
                <a:solidFill>
                  <a:srgbClr val="99ffcc"/>
                </a:solidFill>
                <a:latin typeface="Calibri"/>
                <a:ea typeface="Calibri"/>
              </a:rPr>
              <a:t>53,1% медсестер </a:t>
            </a:r>
            <a:r>
              <a:rPr b="0" lang="ru-RU" sz="2800" spc="-1" strike="noStrike">
                <a:solidFill>
                  <a:srgbClr val="ffffcc"/>
                </a:solidFill>
                <a:latin typeface="Calibri"/>
                <a:ea typeface="Calibri"/>
              </a:rPr>
              <a:t>считали, что при получении психологической помощ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Calibri"/>
                <a:ea typeface="Calibri"/>
              </a:rPr>
              <a:t>или профессиональной поддержки они </a:t>
            </a:r>
            <a:br>
              <a:rPr sz="2800"/>
            </a:br>
            <a:r>
              <a:rPr b="0" lang="ru-RU" sz="2800" spc="-1" strike="noStrike">
                <a:solidFill>
                  <a:srgbClr val="99ffcc"/>
                </a:solidFill>
                <a:latin typeface="Calibri"/>
                <a:ea typeface="Calibri"/>
              </a:rPr>
              <a:t>могли бы лучше выполнять свою рабо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133200" y="1000080"/>
            <a:ext cx="8786880" cy="180036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Calibri"/>
                <a:ea typeface="Calibri"/>
              </a:rPr>
              <a:t>При наличии эмоционального истощения в связи с работой в психиатрическом стациона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alibri"/>
                <a:ea typeface="Calibri"/>
              </a:rPr>
              <a:t>93,4% врачей </a:t>
            </a:r>
            <a:r>
              <a:rPr b="0" lang="ru-RU" sz="2800" spc="-1" strike="noStrike">
                <a:solidFill>
                  <a:srgbClr val="ffffcc"/>
                </a:solidFill>
                <a:latin typeface="Calibri"/>
                <a:ea typeface="Calibri"/>
              </a:rPr>
              <a:t>и </a:t>
            </a:r>
            <a:r>
              <a:rPr b="0" lang="ru-RU" sz="2800" spc="-1" strike="noStrike">
                <a:solidFill>
                  <a:srgbClr val="ffc000"/>
                </a:solidFill>
                <a:latin typeface="Calibri"/>
                <a:ea typeface="Calibri"/>
              </a:rPr>
              <a:t>90,2% медсестер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Calibri"/>
                <a:ea typeface="Calibri"/>
              </a:rPr>
              <a:t>никогда не обращались за психологической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6" descr=""/>
          <p:cNvPicPr/>
          <p:nvPr/>
        </p:nvPicPr>
        <p:blipFill>
          <a:blip r:embed="rId1"/>
          <a:stretch/>
        </p:blipFill>
        <p:spPr>
          <a:xfrm>
            <a:off x="6643800" y="4929120"/>
            <a:ext cx="2357280" cy="1690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2"/>
          <a:stretch/>
        </p:blipFill>
        <p:spPr>
          <a:xfrm>
            <a:off x="6643800" y="3000240"/>
            <a:ext cx="2357280" cy="184968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3"/>
          <p:cNvSpPr/>
          <p:nvPr/>
        </p:nvSpPr>
        <p:spPr>
          <a:xfrm>
            <a:off x="185760" y="90360"/>
            <a:ext cx="8786880" cy="106884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  <a:ea typeface="Calibri"/>
              </a:rPr>
              <a:t>Факторы формирования бремени персонала психиатрических стациона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6643800" y="1500120"/>
            <a:ext cx="2357280" cy="1381320"/>
          </a:xfrm>
          <a:prstGeom prst="rect">
            <a:avLst/>
          </a:prstGeom>
          <a:ln w="0">
            <a:noFill/>
          </a:ln>
        </p:spPr>
      </p:pic>
      <p:sp>
        <p:nvSpPr>
          <p:cNvPr id="280" name="Скругленный прямоугольник 5"/>
          <p:cNvSpPr/>
          <p:nvPr/>
        </p:nvSpPr>
        <p:spPr>
          <a:xfrm>
            <a:off x="6543720" y="1362240"/>
            <a:ext cx="2552760" cy="5371920"/>
          </a:xfrm>
          <a:custGeom>
            <a:avLst/>
            <a:gdLst>
              <a:gd name="textAreaLeft" fmla="*/ 36720 w 2552760"/>
              <a:gd name="textAreaRight" fmla="*/ 2516040 w 2552760"/>
              <a:gd name="textAreaTop" fmla="*/ 36720 h 5371920"/>
              <a:gd name="textAreaBottom" fmla="*/ 5335200 h 5371920"/>
            </a:gdLst>
            <a:ahLst/>
            <a:rect l="textAreaLeft" t="textAreaTop" r="textAreaRight" b="textAreaBottom"/>
            <a:pathLst>
              <a:path w="21600" h="45451">
                <a:moveTo>
                  <a:pt x="1064" y="0"/>
                </a:moveTo>
                <a:arcTo wR="1064" hR="1064" stAng="16200000" swAng="-5400000"/>
                <a:lnTo>
                  <a:pt x="0" y="44387"/>
                </a:lnTo>
                <a:arcTo wR="1064" hR="1064" stAng="10800000" swAng="-5400000"/>
                <a:lnTo>
                  <a:pt x="20536" y="45451"/>
                </a:lnTo>
                <a:arcTo wR="1064" hR="1064" stAng="5400000" swAng="-5400000"/>
                <a:lnTo>
                  <a:pt x="21600" y="1064"/>
                </a:lnTo>
                <a:arcTo wR="1064" hR="1064" stAng="0" swAng="-5400000"/>
                <a:close/>
              </a:path>
            </a:pathLst>
          </a:cu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85840" y="1519200"/>
          <a:ext cx="6072120" cy="5000760"/>
        </p:xfrm>
        <a:graphic>
          <a:graphicData uri="http://schemas.openxmlformats.org/drawingml/2006/table">
            <a:tbl>
              <a:tblPr/>
              <a:tblGrid>
                <a:gridCol w="4273560"/>
                <a:gridCol w="1798560"/>
              </a:tblGrid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ffcc"/>
                          </a:solidFill>
                          <a:latin typeface="Calibri"/>
                          <a:ea typeface="Calibri"/>
                        </a:rPr>
                        <a:t>Фа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3f75">
                        <a:alpha val="5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99ffcc"/>
                          </a:solidFill>
                          <a:latin typeface="Calibri"/>
                          <a:ea typeface="Calibri"/>
                        </a:rPr>
                        <a:t>r 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3f75">
                        <a:alpha val="51000"/>
                      </a:srgbClr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еудовлетворенность от карьерного ро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чрезмерная степень контроля со стороны вышестоящих работ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тсутствие самостоятельности в принятии реш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79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едостаток внимания и помощи в работе со стороны руковод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  <a:tr h="111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изкая профессиональная компетентность персонала в понимании проблем паци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579e">
                        <a:alpha val="51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2" name="Прямоугольник 13"/>
          <p:cNvSpPr/>
          <p:nvPr/>
        </p:nvSpPr>
        <p:spPr>
          <a:xfrm>
            <a:off x="295200" y="6496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* -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&lt;0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2"/>
          <p:cNvSpPr/>
          <p:nvPr/>
        </p:nvSpPr>
        <p:spPr>
          <a:xfrm>
            <a:off x="185760" y="90360"/>
            <a:ext cx="8786880" cy="106884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  <a:ea typeface="Calibri"/>
              </a:rPr>
              <a:t>Качество жизни медицинского персонала психиатрического стацион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Скругленный прямоугольник 3"/>
          <p:cNvSpPr/>
          <p:nvPr/>
        </p:nvSpPr>
        <p:spPr>
          <a:xfrm>
            <a:off x="214200" y="1285920"/>
            <a:ext cx="8772480" cy="120960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4"/>
          <p:cNvSpPr/>
          <p:nvPr/>
        </p:nvSpPr>
        <p:spPr>
          <a:xfrm>
            <a:off x="357120" y="126684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alibri"/>
                <a:ea typeface="Calibri"/>
              </a:rPr>
              <a:t>*</a:t>
            </a:r>
            <a:r>
              <a:rPr b="1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  Опросник </a:t>
            </a:r>
            <a:r>
              <a:rPr b="1" lang="en-US" sz="1800" spc="-1" strike="noStrike">
                <a:solidFill>
                  <a:srgbClr val="99ffcc"/>
                </a:solidFill>
                <a:latin typeface="Calibri"/>
                <a:ea typeface="Calibri"/>
              </a:rPr>
              <a:t>SF-36</a:t>
            </a:r>
            <a:br>
              <a:rPr sz="1800"/>
            </a:br>
            <a:r>
              <a:rPr b="1" lang="ru-RU" sz="1800" spc="-1" strike="noStrike">
                <a:solidFill>
                  <a:srgbClr val="bfbfbf"/>
                </a:solidFill>
                <a:latin typeface="Calibri"/>
                <a:ea typeface="Calibri"/>
              </a:rPr>
              <a:t>     </a:t>
            </a:r>
            <a:r>
              <a:rPr b="1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MOS 36-Item Short-Form Health Survey, J.E.Ware et al. 1992; </a:t>
            </a:r>
            <a:br>
              <a:rPr sz="1800"/>
            </a:br>
            <a:r>
              <a:rPr b="1" lang="ru-RU" sz="1800" spc="-1" strike="noStrike">
                <a:solidFill>
                  <a:srgbClr val="bfbfbf"/>
                </a:solidFill>
                <a:latin typeface="Calibri"/>
                <a:ea typeface="Calibri"/>
              </a:rPr>
              <a:t>     </a:t>
            </a:r>
            <a:r>
              <a:rPr b="1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J.E.</a:t>
            </a:r>
            <a:r>
              <a:rPr b="1" lang="ru-RU" sz="1800" spc="-1" strike="noStrike">
                <a:solidFill>
                  <a:srgbClr val="bfbfbf"/>
                </a:solidFill>
                <a:latin typeface="Calibri"/>
                <a:ea typeface="Calibri"/>
              </a:rPr>
              <a:t> </a:t>
            </a:r>
            <a:r>
              <a:rPr b="1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Ware  et al., 1993; J.E.Ware,199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alibri"/>
                <a:ea typeface="Calibri"/>
              </a:rPr>
              <a:t>*</a:t>
            </a:r>
            <a:r>
              <a:rPr b="1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  Кластерный 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Диаграмма 8" descr=""/>
          <p:cNvPicPr/>
          <p:nvPr/>
        </p:nvPicPr>
        <p:blipFill>
          <a:blip r:embed="rId1"/>
          <a:stretch/>
        </p:blipFill>
        <p:spPr>
          <a:xfrm>
            <a:off x="274680" y="2554200"/>
            <a:ext cx="85154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2"/>
          <p:cNvSpPr/>
          <p:nvPr/>
        </p:nvSpPr>
        <p:spPr>
          <a:xfrm>
            <a:off x="185760" y="90360"/>
            <a:ext cx="8786880" cy="106884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  <a:ea typeface="Calibri"/>
              </a:rPr>
              <a:t>Дистресс, вызванный проблемами межличностного взаимо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500040" y="4005360"/>
            <a:ext cx="3667320" cy="2750760"/>
          </a:xfrm>
          <a:prstGeom prst="rect">
            <a:avLst/>
          </a:prstGeom>
          <a:solidFill>
            <a:srgbClr val="d9d9d9"/>
          </a:solidFill>
          <a:ln w="1908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468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eea"/>
                </a:solidFill>
                <a:latin typeface="Calibri"/>
                <a:ea typeface="Calibri"/>
              </a:rPr>
              <a:t>Опросник </a:t>
            </a:r>
            <a:r>
              <a:rPr b="1" lang="en-US" sz="1600" spc="-1" strike="noStrike">
                <a:solidFill>
                  <a:srgbClr val="007eea"/>
                </a:solidFill>
                <a:latin typeface="Calibri"/>
                <a:ea typeface="Calibri"/>
              </a:rPr>
              <a:t>IIP-64</a:t>
            </a:r>
            <a:r>
              <a:rPr b="0" lang="ru-RU" sz="1600" spc="-1" strike="noStrike">
                <a:solidFill>
                  <a:srgbClr val="007eea"/>
                </a:solidFill>
                <a:latin typeface="Calibri"/>
                <a:ea typeface="Calibri"/>
              </a:rPr>
              <a:t> </a:t>
            </a:r>
            <a:r>
              <a:rPr b="1" lang="ru-RU" sz="1600" spc="-1" strike="noStrike">
                <a:solidFill>
                  <a:srgbClr val="007eea"/>
                </a:solidFill>
                <a:latin typeface="Calibri"/>
                <a:ea typeface="Calibri"/>
              </a:rPr>
              <a:t>включает 8 шк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1. Доминирующий, контролирующ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2. Мстительный, эгоцентрич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3. Холодный, дистант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4. Социально-избегающ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5. Неассертив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6. Излишне-соглашающий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7. Самопожертвен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8. Навязчивый, нуждающий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00040" y="2060640"/>
            <a:ext cx="8105760" cy="177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46800" tIns="46800" bIns="46800" anchor="t">
            <a:spAutoFit/>
          </a:bodyPr>
          <a:p>
            <a:pPr marL="182520" indent="-18252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eea"/>
                </a:solidFill>
                <a:latin typeface="Calibri"/>
                <a:ea typeface="Calibri"/>
              </a:rPr>
              <a:t>Опросник </a:t>
            </a:r>
            <a:r>
              <a:rPr b="1" lang="en-US" sz="1600" spc="-1" strike="noStrike">
                <a:solidFill>
                  <a:srgbClr val="007eea"/>
                </a:solidFill>
                <a:latin typeface="Calibri"/>
                <a:ea typeface="Calibri"/>
              </a:rPr>
              <a:t>IIP-64</a:t>
            </a:r>
            <a:r>
              <a:rPr b="0" lang="ru-RU" sz="1600" spc="-1" strike="noStrike">
                <a:solidFill>
                  <a:srgbClr val="007eea"/>
                </a:solidFill>
                <a:latin typeface="Calibri"/>
                <a:ea typeface="Calibri"/>
              </a:rPr>
              <a:t> </a:t>
            </a:r>
            <a:r>
              <a:rPr b="1" lang="ru-RU" sz="1600" spc="-1" strike="noStrike">
                <a:solidFill>
                  <a:srgbClr val="007eea"/>
                </a:solidFill>
                <a:latin typeface="Calibri"/>
                <a:ea typeface="Calibri"/>
              </a:rPr>
              <a:t>позволяет измерить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1. общий дистрес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2. дистресс, связанный с разными типами межличностных пробле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(в 8-ми специфических областях межличностного функционирова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5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3. дистресс индивида по каждой шкале относительн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5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других шка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локализует область межличностных проблем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5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от которой  индивид страдает больше всег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Скругленный прямоугольник 13"/>
          <p:cNvSpPr/>
          <p:nvPr/>
        </p:nvSpPr>
        <p:spPr>
          <a:xfrm>
            <a:off x="214200" y="1285920"/>
            <a:ext cx="8772480" cy="642960"/>
          </a:xfrm>
          <a:prstGeom prst="roundRect">
            <a:avLst>
              <a:gd name="adj" fmla="val 4926"/>
            </a:avLst>
          </a:prstGeom>
          <a:solidFill>
            <a:srgbClr val="3b444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14"/>
          <p:cNvSpPr/>
          <p:nvPr/>
        </p:nvSpPr>
        <p:spPr>
          <a:xfrm>
            <a:off x="357120" y="12668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Опросник </a:t>
            </a:r>
            <a:r>
              <a:rPr b="1" lang="en-US" sz="1800" spc="-1" strike="noStrike">
                <a:solidFill>
                  <a:srgbClr val="99ffcc"/>
                </a:solidFill>
                <a:latin typeface="Calibri"/>
                <a:ea typeface="Calibri"/>
              </a:rPr>
              <a:t>IIP-64 (Inventory of Interpersonal Problems) Leonard M Horowitz (2000), </a:t>
            </a:r>
            <a:r>
              <a:rPr b="1" lang="ru-RU" sz="1800" spc="-1" strike="noStrike">
                <a:solidFill>
                  <a:srgbClr val="99ffcc"/>
                </a:solidFill>
                <a:latin typeface="Calibri"/>
                <a:ea typeface="Calibri"/>
              </a:rPr>
              <a:t>адаптированный С.Н. Ениколоповым и А.И.Цапенко (2009 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Стрелка углом 16"/>
          <p:cNvSpPr/>
          <p:nvPr/>
        </p:nvSpPr>
        <p:spPr>
          <a:xfrm rot="10800000">
            <a:off x="4214880" y="3219480"/>
            <a:ext cx="1643040" cy="1657440"/>
          </a:xfrm>
          <a:custGeom>
            <a:avLst/>
            <a:gdLst/>
            <a:ahLst/>
            <a:rect l="l" t="t" r="r" b="b"/>
            <a:pathLst>
              <a:path w="1643062" h="1657350">
                <a:moveTo>
                  <a:pt x="0" y="1657350"/>
                </a:moveTo>
                <a:lnTo>
                  <a:pt x="0" y="1060605"/>
                </a:lnTo>
                <a:lnTo>
                  <a:pt x="0" y="1060605"/>
                </a:lnTo>
                <a:arcTo wR="718840" hR="718840" stAng="-10799995" swAng="5400000"/>
                <a:lnTo>
                  <a:pt x="1232297" y="341765"/>
                </a:lnTo>
                <a:lnTo>
                  <a:pt x="1232297" y="0"/>
                </a:lnTo>
                <a:lnTo>
                  <a:pt x="1643062" y="410766"/>
                </a:lnTo>
                <a:lnTo>
                  <a:pt x="1232297" y="821531"/>
                </a:lnTo>
                <a:lnTo>
                  <a:pt x="1232297" y="479766"/>
                </a:lnTo>
                <a:lnTo>
                  <a:pt x="718840" y="479766"/>
                </a:lnTo>
                <a:lnTo>
                  <a:pt x="718840" y="479766"/>
                </a:lnTo>
                <a:arcTo wR="580839" hR="580839" stAng="-5399994" swAng="-5400000"/>
                <a:lnTo>
                  <a:pt x="138001" y="1657350"/>
                </a:lnTo>
                <a:close/>
              </a:path>
            </a:pathLst>
          </a:custGeom>
          <a:solidFill>
            <a:srgbClr val="feb80a"/>
          </a:solidFill>
          <a:ln w="19080">
            <a:solidFill>
              <a:srgbClr val="bb8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0" y="4286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15"/>
          <p:cNvSpPr/>
          <p:nvPr/>
        </p:nvSpPr>
        <p:spPr>
          <a:xfrm>
            <a:off x="176040" y="171360"/>
            <a:ext cx="8786880" cy="2043720"/>
          </a:xfrm>
          <a:prstGeom prst="rect">
            <a:avLst/>
          </a:prstGeom>
          <a:solidFill>
            <a:srgbClr val="003f7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  <a:ea typeface="Calibri"/>
              </a:rPr>
              <a:t>Показатели дистресса связанного с межличностным взаимодействием, у врачей и медицинских сестер психиатрического стацион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Диаграмма 5" descr=""/>
          <p:cNvPicPr/>
          <p:nvPr/>
        </p:nvPicPr>
        <p:blipFill>
          <a:blip r:embed="rId1"/>
          <a:stretch/>
        </p:blipFill>
        <p:spPr>
          <a:xfrm>
            <a:off x="128520" y="2273400"/>
            <a:ext cx="8813880" cy="459720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6"/>
          <p:cNvSpPr/>
          <p:nvPr/>
        </p:nvSpPr>
        <p:spPr>
          <a:xfrm>
            <a:off x="1038240" y="3614760"/>
            <a:ext cx="4791240" cy="2262240"/>
          </a:xfrm>
          <a:prstGeom prst="rect">
            <a:avLst/>
          </a:prstGeom>
          <a:solidFill>
            <a:srgbClr val="ffc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2:01:00Z</dcterms:created>
  <dc:creator>Kosting</dc:creator>
  <dc:description/>
  <dc:language>en-US</dc:language>
  <cp:lastModifiedBy>Tatiana</cp:lastModifiedBy>
  <dcterms:modified xsi:type="dcterms:W3CDTF">2010-11-08T23:18:52Z</dcterms:modified>
  <cp:revision>93</cp:revision>
  <dc:subject/>
  <dc:title>Слайд 1</dc:title>
</cp:coreProperties>
</file>